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39FB-0A82-4813-9991-8F42C9088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2F88-C290-477B-ACF9-94170AA9F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E43E-5357-42AA-855A-099E5ACF0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163B-6860-4E8D-9DF6-E5B461D8E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EC8B-6B15-450D-B50E-B65509898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AD65-CD2B-4EEF-BB68-6691652ED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9104-4A19-4652-B76F-F7187E145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C8D7-DFFB-43A6-B431-6649F91C2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1727-5B1F-4792-82BB-7E1672AEE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0487-2743-4A9D-96AB-E2102021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6638-ECFB-48E2-9605-1580B066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9F1C-F115-4EF5-8D89-38628163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91520" y="6552720"/>
            <a:ext cx="12952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A94D1-D32A-42A3-9A52-25056B422B55}" type="slidenum">
              <a:rPr b="0" lang="en-US" sz="1400" spc="-1" strike="noStrike">
                <a:solidFill>
                  <a:srgbClr val="ffff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fouch@dtm.ciw.edu" TargetMode="External"/><Relationship Id="rId2" Type="http://schemas.openxmlformats.org/officeDocument/2006/relationships/hyperlink" Target="mailto:keagar@asu.edu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rebuchet MS"/>
              </a:rPr>
              <a:t>FuncLab: a MATLAB interactive toolbox for handling receiver function datasets</a:t>
            </a: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4890960"/>
            <a:ext cx="7925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Presented by Meghan Miller &amp; John D. 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Software created by Kevin C. Eagar, AS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(now at Shell O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324480"/>
            <a:ext cx="541008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292752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EarthScope USArra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Data Processing and Analysis Short Cou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August 16,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rebuchet MS"/>
              </a:rPr>
              <a:t>Receiver Function Software</a:t>
            </a:r>
            <a:endParaRPr b="0" lang="en-US" sz="4400" spc="-1" strike="noStrike">
              <a:solidFill>
                <a:srgbClr val="ffff00"/>
              </a:solidFill>
              <a:latin typeface="Trebuchet MS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285840" y="1828800"/>
            <a:ext cx="4667040" cy="3575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"/>
          <p:cNvSpPr/>
          <p:nvPr/>
        </p:nvSpPr>
        <p:spPr>
          <a:xfrm>
            <a:off x="291960" y="7988400"/>
            <a:ext cx="71121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5105520" y="1295280"/>
            <a:ext cx="3733560" cy="54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311040" tIns="50760" bIns="50760" anchor="t">
            <a:normAutofit/>
          </a:bodyPr>
          <a:p>
            <a:pPr marL="3826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robl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increase in seismic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old workflows don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 work for large data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unc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Work with multiple records at on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Handles data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9520" y="555624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rom IRIS SeismiQuery summary for all reporting stations at the D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8CD1-E9AC-4500-8884-7FAC04C97F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rebuchet MS"/>
              </a:rPr>
              <a:t>FuncLab Features: Main GUI</a:t>
            </a:r>
            <a:endParaRPr b="0" lang="en-US" sz="4400" spc="-1" strike="noStrike">
              <a:solidFill>
                <a:srgbClr val="ffff00"/>
              </a:solidFill>
              <a:latin typeface="Trebuchet MS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6095880" cy="521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BF31-61BA-48DA-8257-D18A02C5D4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rebuchet MS"/>
              </a:rPr>
              <a:t>FuncLab Features: Trace Editor</a:t>
            </a:r>
            <a:endParaRPr b="0" lang="en-US" sz="4400" spc="-1" strike="noStrike">
              <a:solidFill>
                <a:srgbClr val="ffff00"/>
              </a:solidFill>
              <a:latin typeface="Trebuchet MS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838080" y="1063800"/>
            <a:ext cx="7467840" cy="541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3043-F6C4-4679-8C78-8A82708EDD5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rebuchet MS"/>
              </a:rPr>
              <a:t>FuncLab Features: Data Visualization</a:t>
            </a:r>
            <a:endParaRPr b="0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4648320" y="1301760"/>
            <a:ext cx="3124080" cy="2660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2"/>
          <a:stretch/>
        </p:blipFill>
        <p:spPr>
          <a:xfrm>
            <a:off x="1676520" y="4076640"/>
            <a:ext cx="2676240" cy="2629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3"/>
          <a:stretch/>
        </p:blipFill>
        <p:spPr>
          <a:xfrm>
            <a:off x="4648320" y="4048200"/>
            <a:ext cx="3124080" cy="2657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"/>
          <p:cNvPicPr/>
          <p:nvPr/>
        </p:nvPicPr>
        <p:blipFill>
          <a:blip r:embed="rId4"/>
          <a:stretch/>
        </p:blipFill>
        <p:spPr>
          <a:xfrm>
            <a:off x="1665360" y="1371600"/>
            <a:ext cx="2678040" cy="248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38BD-EA9C-4A52-BF8F-DBE246CB04D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rebuchet MS"/>
              </a:rPr>
              <a:t>FuncLab: Live Demo</a:t>
            </a:r>
            <a:endParaRPr b="0" lang="en-US" sz="44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Start Matlab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Navigate to the FuncLab home directory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Run setup_funclab.m 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hange to your top-level data directory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Follow the handou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2F68-B4B7-414C-8F8E-F663C3322D7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anks for your attention.  Questions?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3124080"/>
            <a:ext cx="784872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Questions, comments, bug reports, and feature requests should be directed to Matt Fouch (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rebuchet MS"/>
                <a:hlinkClick r:id="rId1"/>
              </a:rPr>
              <a:t>fouch@dtm.ciw.edu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) and Kevin Eagar (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keagar@asu.edu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7310-D13B-4A0B-9687-AC3A04DB95E5}" type="slidenum">
              <a:t>7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00:57:30Z</dcterms:created>
  <dc:creator>John D. West</dc:creator>
  <dc:description/>
  <dc:language>en-US</dc:language>
  <cp:lastModifiedBy>jdw</cp:lastModifiedBy>
  <dcterms:modified xsi:type="dcterms:W3CDTF">2011-08-13T23:04:23Z</dcterms:modified>
  <cp:revision>67</cp:revision>
  <dc:subject/>
  <dc:title>Slide 1</dc:title>
</cp:coreProperties>
</file>