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ff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ACC9-F61C-4017-8980-172889D95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e seismological community with improved tools for managing our seismic event data, I am developing a new software system. Now every project needs an acronym, and this is m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I go to all the trouble of writing a new software system? That’s a good question, and one I occasionally ask myself. Furthermore, why should you c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49F7-A19C-4DA7-974B-5F96EF56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2F88-3093-42F2-9066-3A03FBD4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23CE-9C38-4EA1-AECA-72FC7659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F75-E252-4648-BF6C-C295ABB7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DF6-EB52-4964-9CA7-C140D59F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C79-0D83-4BFA-9C79-BB2D18C4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37E-FAE7-43AF-B732-D6F7CE07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C40C-9315-49D9-9465-08E9DB8D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B9AD-81A2-47AD-A738-0FFF33AA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52B9-461E-4B32-9566-7AF9DAD2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820-F03F-43A6-852B-640CF743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FD96-C4F7-4454-8BEB-30A0D1AA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ff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552720"/>
            <a:ext cx="1295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ff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7337-4B9D-48C1-8343-5B6BB88502C1}" type="slidenum">
              <a:rPr b="0" lang="en-US" sz="1400" spc="-1" strike="noStrike">
                <a:solidFill>
                  <a:srgbClr val="00ff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5029200" cy="31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john.d.west@asu.edu" TargetMode="External"/><Relationship Id="rId2" Type="http://schemas.openxmlformats.org/officeDocument/2006/relationships/hyperlink" Target="http://emerald.la.asu.edu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rebuchet MS"/>
              </a:rPr>
              <a:t>EMERALD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371600"/>
            <a:ext cx="79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A software framework for seismic event processing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25280" y="489096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John D.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743200" y="5410080"/>
          <a:ext cx="3645000" cy="7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5410080"/>
                    <a:ext cx="364500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6324480"/>
            <a:ext cx="54100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32320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rebuchet MS"/>
              </a:rPr>
              <a:t>EarthScope USArray</a:t>
            </a:r>
            <a:br>
              <a:rPr sz="2400"/>
            </a:br>
            <a:r>
              <a:rPr b="0" lang="en-US" sz="2400" spc="-1" strike="noStrike">
                <a:solidFill>
                  <a:srgbClr val="00ff00"/>
                </a:solidFill>
                <a:latin typeface="Trebuchet MS"/>
              </a:rPr>
              <a:t>Data Processing and Analysis Short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rebuchet MS"/>
              </a:rPr>
              <a:t>August 16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8840" y="456840"/>
            <a:ext cx="2895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rebuchet MS"/>
              </a:rPr>
              <a:t>E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xplor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rebuchet MS"/>
              </a:rPr>
              <a:t>M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anag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rebuchet MS"/>
              </a:rPr>
              <a:t>E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di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rebuchet MS"/>
              </a:rPr>
              <a:t>R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educe, &amp;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rebuchet MS"/>
              </a:rPr>
              <a:t>A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nalyz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rebuchet MS"/>
              </a:rPr>
              <a:t>L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arg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rebuchet MS"/>
              </a:rPr>
              <a:t>D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ataset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138560" cy="58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F92E-24B4-47AC-8904-3B926C87DD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rebuchet MS"/>
              </a:rPr>
              <a:t>About EMERALD</a:t>
            </a:r>
            <a:endParaRPr b="0" lang="en-US" sz="4400" spc="-1" strike="noStrike">
              <a:solidFill>
                <a:srgbClr val="00ff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rver based: designed for an individual or small workgroup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eb browser access: use from laptop, tablet, or smart phon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ployed as a virtual machine – minimal setup &amp; configuratio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ll free or open-source softwar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urrently in beta test on our server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703-DA57-4ACB-9E34-396951260E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rebuchet MS"/>
              </a:rPr>
              <a:t>The Goal: Efficiency</a:t>
            </a:r>
            <a:endParaRPr b="0" lang="en-US" sz="4400" spc="-1" strike="noStrike">
              <a:solidFill>
                <a:srgbClr val="00ff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ut down on the grunt work by reviewing a lot of seismograms quickl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pend less time re-writing codes and scripts and more time doing scienc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hare processing and plotting methods between researcher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9E6-AEFB-4194-8811-0CBC7A62CC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rebuchet MS"/>
              </a:rPr>
              <a:t>Hands on Demo</a:t>
            </a:r>
            <a:endParaRPr b="0" lang="en-US" sz="4400" spc="-1" strike="noStrike">
              <a:solidFill>
                <a:srgbClr val="00ff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Go to emeraldvm.la.asu.edu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og in with your first initial and last name, all lower case: e.g., “jwest”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assword is “betauser”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aveat: This is beta software, running on a small server. We may crash it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ming attractions: a new powerful server is on order.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16F-3F6A-4FD2-9C7D-A926D14B59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anks for your attention.  Questions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971800"/>
            <a:ext cx="800100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irect questions, comments, bug reports and feature requests t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john.d.west@asu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D/OR: join the EMERALD on-line discussion board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emerald.la.asu.edu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703-F145-4BA3-B36A-7D805AEA78A8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457-FDCD-4B4A-89F9-874CAC6D60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45C-F522-4E74-A234-EBC35070B3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0:57:30Z</dcterms:created>
  <dc:creator>John D. West</dc:creator>
  <dc:description/>
  <dc:language>en-US</dc:language>
  <cp:lastModifiedBy>jdw</cp:lastModifiedBy>
  <dcterms:modified xsi:type="dcterms:W3CDTF">2011-08-13T23:19:56Z</dcterms:modified>
  <cp:revision>64</cp:revision>
  <dc:subject/>
  <dc:title>Slide 1</dc:title>
</cp:coreProperties>
</file>