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5562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The Lazy Programmer</a:t>
            </a:r>
            <a:br>
              <a:rPr sz="2000"/>
            </a:br>
            <a:br>
              <a:rPr sz="2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Lessons in code reuse from m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17 years as a software develop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530028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John D. 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76720" y="5759280"/>
          <a:ext cx="259056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759280"/>
                    <a:ext cx="2590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62120" y="3505320"/>
            <a:ext cx="7696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EarthScope USAr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Data Processing and Analysis Short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August 16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// step through the loop 100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// du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 (i = 1; i &lt;= 100; i+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// increment along the surface (x axi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// summing each point’s con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 (i = 1; i &lt;= 100; i+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Describe the process,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not the code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low chart first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rite your comments describing the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rite your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Write a header block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/*****************************************************************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/* 2-dimensional channel flow program                      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/*   for channels with free upper surface                    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/*                                                                             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/* Original by JD West, 01/08/2006                           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/* Modified 02/11/2007 to increase resolution           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/*****************************************************************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Use Descriptive Variable Name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// increment along the surface (x axi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// summing each point’s con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 (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iLength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= 1; 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iLength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&lt;= 100; 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iLength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+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Don’t Hardcode Values in your Code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// increment along the surface (x axi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// summing each point’s con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 (iLength = 1; iLength &lt;= 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iMax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; iLength+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Use declaration and value block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120" y="2209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// Decla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Length;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// x-axis inc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Max;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// total inc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ub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Velocity[5001]; // array of velo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// Initial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Max = 500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Or, use an external file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120" y="20574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// Decla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Length;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// x-axis inc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Max;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// total inc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ub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Velocity[5001]; // array of velo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// Read and set Initial Values from 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Choose a naming conventi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and stick with i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0574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odeCoun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uble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FlowVelocit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ng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MaxChannelLeng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loa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SlipAng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r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ProjectLocation[255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Note use of mixed case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Use descriptive file name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aming your script “test.csh”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I will never be able to reuse this cod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What if you need code to do something that you last did several years ago? 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Pretend you ar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in a programming team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312372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rite your code as if someone else will have to understand and modif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Summary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rite your comment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ment meaningfully and profus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ructure your code for easy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ame your variables meaningfu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values at the beginning of your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se descriptive file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Final Though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120" y="2742840"/>
            <a:ext cx="8153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Apply these rules consistently!  There is nothing so permanent as a temporary f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The Typical Scenario: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2742840"/>
            <a:ext cx="8153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ep 1:  Look at your ol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ep 2:  Say “What the heck did I do her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Step 3:  Rewrit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The Ideal Scenario: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2742840"/>
            <a:ext cx="8153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ep 1:  Look at your ol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ep 2:  Say “Wow, I write good code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Step 3:  Tweak code and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Time saved = hours to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The Difference?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Quality of your com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tion of your c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Typical Software Development Times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74284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50%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25% Co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25% Debugging and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Time savings for reuse are much more than just the coding ti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143000"/>
            <a:ext cx="83059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commented code = hate mail to the future -- addressed to "occupant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267080"/>
            <a:ext cx="33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--Anthony C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Write you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comments first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9907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// step through the loop 100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for (i = 1; i &lt;= 100; i+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335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sm" type="diamond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3:53:16Z</dcterms:created>
  <dc:creator>John D. West</dc:creator>
  <dc:description/>
  <dc:language>en-US</dc:language>
  <cp:lastModifiedBy>jdw</cp:lastModifiedBy>
  <dcterms:modified xsi:type="dcterms:W3CDTF">2011-08-03T21:58:13Z</dcterms:modified>
  <cp:revision>22</cp:revision>
  <dc:subject/>
  <dc:title>13 Years in 30 Minutes: Lessons in code reuse from my 13 years as a programmer</dc:title>
</cp:coreProperties>
</file>