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1281D-ED05-4883-9F78-5B008E0D9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E47E7-408B-4997-868C-5851B54A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9C54E-5368-4812-A59D-4F58606B3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BCA-5FEE-4D3F-9D34-04D8111E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6BA-E47E-4994-8439-17D22305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691-DE25-4069-B6C2-003C391C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93F-96FD-43AC-AC0D-4B72160F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988B-27BC-475B-A086-A5561A93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D015-A20D-46D6-B5F9-1C1183FE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4D06-B479-4255-821E-FCC28985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57FD-63C6-4200-9692-6BA60943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BEBA-7C02-4ED0-8A87-CA3B8074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A12A-9987-47E1-B04F-F7211C71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948E-1F6F-41B6-8F27-6C369921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BA5-D693-47A1-BF70-1549C83B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70F5-E058-4179-BD1B-91F7A6F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6916-6067-403C-BE29-08E3EED6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17AB-459E-41FE-BCC5-4EB4433A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203E-8F10-411D-A967-678289EE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F83D-14FD-43F8-9160-9DAB9912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64F-2BBA-4F83-9F74-F72CF347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0C4-38B2-4ABE-B8F7-248F9065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8CA-AE58-48E5-AB7C-DE4776A5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0AA-0F56-4670-9A75-EF8D7329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1B8-1502-47D2-96BE-EF834492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7E1-2044-4D19-9CEC-3BDBBB3E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998-B0D9-462F-B8FF-096B283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59666-3407-41A8-A80F-489212CE398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BB558-1C81-46E6-9C20-935C3D8752E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48A9F-12B7-44A7-89CA-64A32E53159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AD3F8-0451-45F7-B398-7B003DCEF15A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2280" y="1631520"/>
            <a:ext cx="649944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roduction to Broadband processing with Matlab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Rob Porrit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UC Berkeley PhD Candidat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US Array Short Course 2010, Evanston, I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2" name="Picture 4" descr="BSLlogoPPT.jpg"/>
          <p:cNvPicPr/>
          <p:nvPr/>
        </p:nvPicPr>
        <p:blipFill>
          <a:blip r:embed="rId2"/>
          <a:stretch/>
        </p:blipFill>
        <p:spPr>
          <a:xfrm>
            <a:off x="0" y="0"/>
            <a:ext cx="31226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icture 3.png"/>
          <p:cNvPicPr/>
          <p:nvPr/>
        </p:nvPicPr>
        <p:blipFill>
          <a:blip r:embed="rId3"/>
          <a:stretch/>
        </p:blipFill>
        <p:spPr>
          <a:xfrm>
            <a:off x="6838920" y="0"/>
            <a:ext cx="2305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ot just for data process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49000" y="1600200"/>
            <a:ext cx="804204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art with a break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atlab draw poke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News Gothic MT"/>
              </a:rPr>
              <a:t>poker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atlab role-playing gam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News Gothic MT"/>
              </a:rPr>
              <a:t>dunge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6" name="Content Placeholder 2"/>
          <p:cNvSpPr/>
          <p:nvPr/>
        </p:nvSpPr>
        <p:spPr>
          <a:xfrm>
            <a:off x="549360" y="3890880"/>
            <a:ext cx="80420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made these games years ago during a very boring summer working third shift in an automotive fac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y favorite equations (1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(t) = s(t) * g(t) * i(t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(ω) = S(ω)G(ω)I(ω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observed seismogram (u) is a convolution of the source (s) of seismic excitation with the earth’s Green’s function (g) and the convolution with the instrument recording (i). Or in the frequency domain, convolution is multipl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y favorite equations (2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9000" y="2690280"/>
            <a:ext cx="804204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ρ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ü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=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f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+ (λ + 2μ)</a:t>
            </a:r>
            <a:r>
              <a:rPr b="0" lang="en-US" sz="2400" spc="-1" strike="noStrike">
                <a:solidFill>
                  <a:srgbClr val="595959"/>
                </a:solidFill>
                <a:latin typeface="ＭＳ ゴシック"/>
                <a:ea typeface="ＭＳ ゴシック"/>
              </a:rPr>
              <a:t>∨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</a:t>
            </a:r>
            <a:r>
              <a:rPr b="0" lang="en-US" sz="2400" spc="-1" strike="noStrike">
                <a:solidFill>
                  <a:srgbClr val="595959"/>
                </a:solidFill>
                <a:latin typeface="ＭＳ ゴシック"/>
                <a:ea typeface="ＭＳ ゴシック"/>
              </a:rPr>
              <a:t>∨</a:t>
            </a:r>
            <a:r>
              <a:rPr b="0" lang="en-US" sz="2400" spc="-1" strike="noStrike">
                <a:solidFill>
                  <a:srgbClr val="595959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u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) – μ</a:t>
            </a:r>
            <a:r>
              <a:rPr b="0" lang="en-US" sz="2400" spc="-1" strike="noStrike">
                <a:solidFill>
                  <a:srgbClr val="595959"/>
                </a:solidFill>
                <a:latin typeface="ＭＳ ゴシック"/>
                <a:ea typeface="ＭＳ ゴシック"/>
              </a:rPr>
              <a:t>∨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x (</a:t>
            </a:r>
            <a:r>
              <a:rPr b="0" lang="en-US" sz="2400" spc="-1" strike="noStrike">
                <a:solidFill>
                  <a:srgbClr val="595959"/>
                </a:solidFill>
                <a:latin typeface="ＭＳ ゴシック"/>
                <a:ea typeface="ＭＳ ゴシック"/>
              </a:rPr>
              <a:t>∨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x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u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1" name="Content Placeholder 2"/>
          <p:cNvSpPr/>
          <p:nvPr/>
        </p:nvSpPr>
        <p:spPr>
          <a:xfrm>
            <a:off x="549360" y="2690640"/>
            <a:ext cx="8042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tent Placeholder 2"/>
          <p:cNvSpPr/>
          <p:nvPr/>
        </p:nvSpPr>
        <p:spPr>
          <a:xfrm>
            <a:off x="549360" y="1620720"/>
            <a:ext cx="80420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equation of motion in a homogeneous medium, using displacement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6384960" y="5934240"/>
            <a:ext cx="27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ative Seismology, Aki and Richards, 2002. Equation 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549360" y="3378240"/>
            <a:ext cx="80420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 as Sir Isaac Newton pu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MA = Σ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at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9000" y="160020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ome data from a Berkeley station is stored in the data/exercise_{1,2,3,5} fold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ou can replace that data with your data in the folder data/intern_data/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side that folder are three more folders (hunter, pnina, rob) which contain data for two teleseisms and some odd data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side intern_data/resp is the pole-zero response of your stations (cmg3t.pz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mponent naming conven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irst letter is the sampling rat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L = Low or 1 hz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B = Mid or 40 hz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More options, but these are most likely what you may se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cond letter is the gai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H = High gai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L = Low gai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hird letter is the directio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Z = Vertic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N = North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E = East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hus, BHZ is 40 hz, high gain, vertica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reprocess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599840"/>
            <a:ext cx="8042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om here on, the full steps are outlined in the workshe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rest of the presentation will hopefully give background why we do each step, but feel free to start work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eprocessing is the “standard” steps to get true ground motion from the seismic recor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w data is in “digital counts” versus time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reprocessing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move the mean and linear tren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mean would create a very large DC or 0 frequency amplitude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linear trend has a lesser effect, but again amplifies various non-linear effec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aper the en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Discrete Fourier Transform (DFT) algorithm can create significant undesired sidelopes or ringing. Tapering the ends reduces this effec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move the instrument respons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is is a science in and about itself (see next slide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ment Respon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4" name="Picture 5" descr="untitled.jpg"/>
          <p:cNvPicPr/>
          <p:nvPr/>
        </p:nvPicPr>
        <p:blipFill>
          <a:blip r:embed="rId2"/>
          <a:stretch/>
        </p:blipFill>
        <p:spPr>
          <a:xfrm>
            <a:off x="3467160" y="1839960"/>
            <a:ext cx="5676840" cy="4257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-360" y="1599840"/>
            <a:ext cx="3476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Convolution of sensor, digitizer, and decimation(s)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ensors has poles to define shape, zeros to define acceleration, velocity, or displacement, and gain for units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Digitizer does decimation with gain factor and high corner pole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y function does not include digitizer poles and normalization because the sac pole zero file does not contain that information.</a:t>
            </a: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5641920" y="5751360"/>
            <a:ext cx="19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 rot="16200000">
            <a:off x="2690640" y="3519360"/>
            <a:ext cx="19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egration and Differenti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9000" y="1599840"/>
            <a:ext cx="53434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e record velocity as a function of time, but moment tensors are defined in terms of displacement and building codes are defined in terms of peak ground acceleratio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ankfully the relations are standard calcul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adly they are discrete functions and thus its non-trivial to implement the calcul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326280" y="2141640"/>
                <a:ext cx="2265120" cy="33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untitled.jpg"/>
          <p:cNvPicPr/>
          <p:nvPr/>
        </p:nvPicPr>
        <p:blipFill>
          <a:blip r:embed="rId2"/>
          <a:stretch/>
        </p:blipFill>
        <p:spPr>
          <a:xfrm>
            <a:off x="0" y="3824280"/>
            <a:ext cx="9144000" cy="3086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tegration and Differenti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49000" y="1599840"/>
            <a:ext cx="804204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w to integrate or differentiate in the time domain is actually non-trivial. It is thus more common to do frequency domain calcul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freq_integr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ivides the data by 2iπf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875120" y="30560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9213b"/>
                </a:solidFill>
                <a:latin typeface="News Gothic MT"/>
              </a:rPr>
              <a:t>freq_differenti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9213b"/>
                </a:solidFill>
                <a:latin typeface="News Gothic MT"/>
                <a:ea typeface="ＭＳ Ｐゴシック"/>
              </a:rPr>
              <a:t>Multiplies the data by 2iπ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6434280" y="44020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6434280" y="52657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434280" y="61531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ata comparis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974880" y="1606680"/>
            <a:ext cx="7386480" cy="50911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47560" y="1774800"/>
            <a:ext cx="427320" cy="1593720"/>
            <a:chOff x="547560" y="1774800"/>
            <a:chExt cx="427320" cy="1593720"/>
          </a:xfrm>
        </p:grpSpPr>
        <p:sp>
          <p:nvSpPr>
            <p:cNvPr id="97" name="Straight Connector 5"/>
            <p:cNvSpPr/>
            <p:nvPr/>
          </p:nvSpPr>
          <p:spPr>
            <a:xfrm flipH="1" flipV="1">
              <a:off x="548640" y="1774800"/>
              <a:ext cx="42588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7"/>
            <p:cNvSpPr/>
            <p:nvPr/>
          </p:nvSpPr>
          <p:spPr>
            <a:xfrm flipH="1">
              <a:off x="547560" y="1776240"/>
              <a:ext cx="1440" cy="15908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9"/>
            <p:cNvSpPr/>
            <p:nvPr/>
          </p:nvSpPr>
          <p:spPr>
            <a:xfrm>
              <a:off x="547560" y="3367080"/>
              <a:ext cx="42732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2"/>
          <p:cNvGrpSpPr/>
          <p:nvPr/>
        </p:nvGrpSpPr>
        <p:grpSpPr>
          <a:xfrm>
            <a:off x="547560" y="3367080"/>
            <a:ext cx="427320" cy="1527120"/>
            <a:chOff x="547560" y="3367080"/>
            <a:chExt cx="427320" cy="1527120"/>
          </a:xfrm>
        </p:grpSpPr>
        <p:sp>
          <p:nvSpPr>
            <p:cNvPr id="101" name="Straight Connector 13"/>
            <p:cNvSpPr/>
            <p:nvPr/>
          </p:nvSpPr>
          <p:spPr>
            <a:xfrm flipH="1" flipV="1">
              <a:off x="548640" y="3367080"/>
              <a:ext cx="42588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14"/>
            <p:cNvSpPr/>
            <p:nvPr/>
          </p:nvSpPr>
          <p:spPr>
            <a:xfrm flipH="1">
              <a:off x="547560" y="3368520"/>
              <a:ext cx="1440" cy="15242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15"/>
            <p:cNvSpPr/>
            <p:nvPr/>
          </p:nvSpPr>
          <p:spPr>
            <a:xfrm>
              <a:off x="547560" y="4892760"/>
              <a:ext cx="42732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550800" y="4892760"/>
            <a:ext cx="425520" cy="1528560"/>
            <a:chOff x="550800" y="4892760"/>
            <a:chExt cx="425520" cy="1528560"/>
          </a:xfrm>
        </p:grpSpPr>
        <p:sp>
          <p:nvSpPr>
            <p:cNvPr id="105" name="Straight Connector 17"/>
            <p:cNvSpPr/>
            <p:nvPr/>
          </p:nvSpPr>
          <p:spPr>
            <a:xfrm flipH="1" flipV="1">
              <a:off x="552240" y="4892760"/>
              <a:ext cx="42408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8"/>
            <p:cNvSpPr/>
            <p:nvPr/>
          </p:nvSpPr>
          <p:spPr>
            <a:xfrm flipH="1">
              <a:off x="550800" y="4894200"/>
              <a:ext cx="1440" cy="152568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19"/>
            <p:cNvSpPr/>
            <p:nvPr/>
          </p:nvSpPr>
          <p:spPr>
            <a:xfrm>
              <a:off x="550800" y="6419880"/>
              <a:ext cx="42552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20"/>
          <p:cNvSpPr/>
          <p:nvPr/>
        </p:nvSpPr>
        <p:spPr>
          <a:xfrm rot="16200000">
            <a:off x="-183600" y="20808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 rot="16200000">
            <a:off x="-184680" y="38851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 rot="16200000">
            <a:off x="-218160" y="5385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3"/>
          <p:cNvSpPr/>
          <p:nvPr/>
        </p:nvSpPr>
        <p:spPr>
          <a:xfrm>
            <a:off x="3008160" y="3833640"/>
            <a:ext cx="357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k was a George Bush (fail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ng period seismogram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49360" y="1599840"/>
            <a:ext cx="53085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y factors discussed in the worksheet lead to primarily long period signals from large distant earthquak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arge earthquakes excite very large and very long period waves which ring around the ear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longest period earth mode is the Slichter mode vibrating with a period of around 1 hou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70" name="Picture 4" descr="SumatraPoster.jpg"/>
          <p:cNvPicPr/>
          <p:nvPr/>
        </p:nvPicPr>
        <p:blipFill>
          <a:blip r:embed="rId2"/>
          <a:stretch/>
        </p:blipFill>
        <p:spPr>
          <a:xfrm>
            <a:off x="5837400" y="2576520"/>
            <a:ext cx="33066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erci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eprocess the 3-component data to ground velocit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w pass filter the dat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tate the horizontals to radial and transverse direc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you feel comfortable with Matlab try plotting phases with </a:t>
            </a:r>
            <a:r>
              <a:rPr b="0" i="1" lang="en-US" sz="2400" spc="-1" strike="noStrike">
                <a:solidFill>
                  <a:srgbClr val="595959"/>
                </a:solidFill>
                <a:latin typeface="News Gothic MT"/>
              </a:rPr>
              <a:t>plot_phase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scribed at the end of the workshe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thropogenic noi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ise” due to human motion typically excites higher frequenci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igh pass filter the data to see the variation between day and nigh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75" name="Picture 3" descr="untitled.jpg"/>
          <p:cNvPicPr/>
          <p:nvPr/>
        </p:nvPicPr>
        <p:blipFill>
          <a:blip r:embed="rId2"/>
          <a:stretch/>
        </p:blipFill>
        <p:spPr>
          <a:xfrm>
            <a:off x="0" y="3772080"/>
            <a:ext cx="9144000" cy="3085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1198440" y="35877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1198440" y="51307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7"/>
          <p:cNvSpPr/>
          <p:nvPr/>
        </p:nvSpPr>
        <p:spPr>
          <a:xfrm flipV="1">
            <a:off x="4719600" y="3957480"/>
            <a:ext cx="36720" cy="2595600"/>
          </a:xfrm>
          <a:prstGeom prst="line">
            <a:avLst/>
          </a:prstGeom>
          <a:ln w="38160">
            <a:solidFill>
              <a:srgbClr val="2c7c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4719600" y="3587760"/>
            <a:ext cx="23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am - Berke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ower Spectral Densit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49000" y="1599840"/>
            <a:ext cx="804204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tral estimate of power over a time perio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ust estimates require averaging several spectrums within the time window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andard tool for looking at background seismic signals and quality control of sta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2" name="Picture 3" descr="swap_psd.pdf"/>
          <p:cNvPicPr/>
          <p:nvPr/>
        </p:nvPicPr>
        <p:blipFill>
          <a:blip r:embed="rId2"/>
          <a:srcRect l="62217" t="0" r="3890" b="0"/>
          <a:stretch/>
        </p:blipFill>
        <p:spPr>
          <a:xfrm rot="16200000">
            <a:off x="2884320" y="2214000"/>
            <a:ext cx="283212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herenc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49000" y="1599840"/>
            <a:ext cx="804204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asure of similarity between two signa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ust estimate via similar method as PS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5" name="Picture 3" descr="swap_coherence.pdf"/>
          <p:cNvPicPr/>
          <p:nvPr/>
        </p:nvPicPr>
        <p:blipFill>
          <a:blip r:embed="rId2"/>
          <a:srcRect l="0" t="64121" r="0" b="0"/>
          <a:stretch/>
        </p:blipFill>
        <p:spPr>
          <a:xfrm>
            <a:off x="1171440" y="3355920"/>
            <a:ext cx="6662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ross Corre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stimates delay time of similar signa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0" y="2289240"/>
            <a:ext cx="9144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hase arrival estimat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90" name="Picture 4" descr="untitled.jpg"/>
          <p:cNvPicPr/>
          <p:nvPr/>
        </p:nvPicPr>
        <p:blipFill>
          <a:blip r:embed="rId2"/>
          <a:srcRect l="10875" t="0" r="6042" b="0"/>
          <a:stretch/>
        </p:blipFill>
        <p:spPr>
          <a:xfrm>
            <a:off x="23760" y="1660680"/>
            <a:ext cx="9099720" cy="23778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1604880" y="432576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still needs work. Main inputs include the distance between station and earthquake, 1D velocity model, depth, and origin time relative to the start of the seism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270240" y="2049480"/>
            <a:ext cx="11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4135320" y="332100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7"/>
          <p:cNvCxnSpPr/>
          <p:nvPr/>
        </p:nvCxnSpPr>
        <p:spPr>
          <a:xfrm>
            <a:off x="3366000" y="2346120"/>
            <a:ext cx="11880" cy="41004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  <p:cxnSp>
        <p:nvCxnSpPr>
          <p:cNvPr id="195" name="Straight Arrow Connector 8"/>
          <p:cNvCxnSpPr/>
          <p:nvPr/>
        </p:nvCxnSpPr>
        <p:spPr>
          <a:xfrm flipV="1">
            <a:off x="5019840" y="2908080"/>
            <a:ext cx="2160" cy="41328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  <p:sp>
        <p:nvSpPr>
          <p:cNvPr id="196" name="TextBox 10"/>
          <p:cNvSpPr/>
          <p:nvPr/>
        </p:nvSpPr>
        <p:spPr>
          <a:xfrm>
            <a:off x="6337440" y="144468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leig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12"/>
          <p:cNvCxnSpPr/>
          <p:nvPr/>
        </p:nvCxnSpPr>
        <p:spPr>
          <a:xfrm flipH="1">
            <a:off x="6911640" y="1814040"/>
            <a:ext cx="2160" cy="94212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eneralized Ray Theo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rward Modeling method. Exercise is not fully developed. Delve into this only if you are exceedingly curious and comfortable with Matla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utes the rays with some esoteric law you may have heard of…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00" name="Picture 3" descr="untitled.jpg"/>
          <p:cNvPicPr/>
          <p:nvPr/>
        </p:nvPicPr>
        <p:blipFill>
          <a:blip r:embed="rId2"/>
          <a:stretch/>
        </p:blipFill>
        <p:spPr>
          <a:xfrm>
            <a:off x="0" y="2941560"/>
            <a:ext cx="91440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ays computed in co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281160" y="1917720"/>
            <a:ext cx="856296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3"/>
          <p:cNvSpPr/>
          <p:nvPr/>
        </p:nvSpPr>
        <p:spPr>
          <a:xfrm>
            <a:off x="4060800" y="23241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ell’s La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0" y="2303640"/>
            <a:ext cx="8982000" cy="3690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ome interesting signa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147600" y="2336760"/>
            <a:ext cx="8996400" cy="4469400"/>
            <a:chOff x="147600" y="2336760"/>
            <a:chExt cx="8996400" cy="4469400"/>
          </a:xfrm>
        </p:grpSpPr>
        <p:sp>
          <p:nvSpPr>
            <p:cNvPr id="115" name="Straight Connector 8"/>
            <p:cNvSpPr/>
            <p:nvPr/>
          </p:nvSpPr>
          <p:spPr>
            <a:xfrm>
              <a:off x="2552760" y="6436080"/>
              <a:ext cx="1231920" cy="1440"/>
            </a:xfrm>
            <a:prstGeom prst="line">
              <a:avLst/>
            </a:prstGeom>
            <a:ln w="25560">
              <a:solidFill>
                <a:srgbClr val="2c7c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47600" y="2336760"/>
              <a:ext cx="8996400" cy="4469400"/>
              <a:chOff x="147600" y="2336760"/>
              <a:chExt cx="8996400" cy="4469400"/>
            </a:xfrm>
          </p:grpSpPr>
          <p:pic>
            <p:nvPicPr>
              <p:cNvPr id="117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47600" y="2336760"/>
                <a:ext cx="8996400" cy="369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Straight Connector 6"/>
              <p:cNvSpPr/>
              <p:nvPr/>
            </p:nvSpPr>
            <p:spPr>
              <a:xfrm flipH="1">
                <a:off x="2552760" y="4932360"/>
                <a:ext cx="10800" cy="1503360"/>
              </a:xfrm>
              <a:prstGeom prst="line">
                <a:avLst/>
              </a:prstGeom>
              <a:ln w="25560">
                <a:solidFill>
                  <a:srgbClr val="2c7c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Straight Connector 7"/>
              <p:cNvSpPr/>
              <p:nvPr/>
            </p:nvSpPr>
            <p:spPr>
              <a:xfrm flipH="1">
                <a:off x="3784320" y="4932360"/>
                <a:ext cx="12600" cy="1503360"/>
              </a:xfrm>
              <a:prstGeom prst="line">
                <a:avLst/>
              </a:prstGeom>
              <a:ln w="25560">
                <a:solidFill>
                  <a:srgbClr val="2c7c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1"/>
              <p:cNvSpPr/>
              <p:nvPr/>
            </p:nvSpPr>
            <p:spPr>
              <a:xfrm>
                <a:off x="1947600" y="6437880"/>
                <a:ext cx="258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 seconds ~ 160 k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sclaim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primarily work in c for the processing speed and my familiarity with i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Matlab functions in this tutorial were written by me, a graduate student in seismology, not a computer programmer or an expert in digital signal process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y Matlab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369880" y="1600200"/>
            <a:ext cx="40035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asy to use and lear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teractive environme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ver-growing libr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ood documenta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2370240" y="3962520"/>
            <a:ext cx="4003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Not f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Slow to o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Poor with st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tlab packages availabl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ssures-MATLAB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ckage distributed by IRI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tSe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ckage for active source data process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litLa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ckage for doing shear-wave splitt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et your own cop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You can copy the data and functions from my directory on a linux/unix terminal with the command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News Gothic MT"/>
              </a:rPr>
              <a:t>cp –r /fs/tmp/porritt_matlab/* 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w you can call them from matlab or edit them with the edito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eck out the functio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News Gothic MT"/>
              </a:rPr>
              <a:t>ls porritt_broadband_processing_matlab/function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et starte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wnload a local copy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ttp://seismowiki2.pbworks.com/f/porritt_broadband_processing_matlab.zip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nzi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unzip or finde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d the pa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aunch matlab. Then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ddpath (directory of unzipped)/porritt_broadband_processing_matlab/function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dd matTau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t sure we’ll get there, but to install the matlab wrapper from Matlab prompt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ddpath /Users/usarray/Documents/MATLAB/matTaup/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javaaddpath /Users/usarray/Documents/MATLAB/matTaup/lib/matTaup.ja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4:23:09Z</dcterms:created>
  <dc:creator>Rob Porritt</dc:creator>
  <dc:description/>
  <dc:language>en-US</dc:language>
  <cp:lastModifiedBy>Rob Porritt</cp:lastModifiedBy>
  <dcterms:modified xsi:type="dcterms:W3CDTF">2010-08-26T14:10:43Z</dcterms:modified>
  <cp:revision>14</cp:revision>
  <dc:subject/>
  <dc:title>Introduction to Broadband processing with Matlab</dc:title>
</cp:coreProperties>
</file>