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7B13-CA60-4B90-A1DE-F1DC602EA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1E74-7E55-432F-B909-261C54206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ls screenshot) -- (GoogleEarth screen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CRIP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607-199A-4546-814A-8DC9F20D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22A-661A-43C7-B9DC-854C3491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5A6-50CB-4D40-80E8-820F52AB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4F3-0564-47F4-85C5-2EFD51E1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B52-F2F3-4C3B-99AA-60B01ED7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76E-3A4D-4A23-A854-73492F98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E42-0E62-4D5E-A446-8C4511E1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3FC-C1C5-4379-B9F8-64EEADB1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DE7-F5FD-4D2A-8376-1DD72990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DDA-F82C-40ED-A12B-98A5B4A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F6D-D5BA-469E-958B-C88BC868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A76-210E-4662-B367-6299F51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B72-22AF-4BFB-86CC-CF5E462871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ogle It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ML Converter for Excel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38080" y="3809880"/>
            <a:ext cx="518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vor Boll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western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o C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ston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xy F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versity of Nevada, R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866960" cy="139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828800" cy="145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2011-08-18_23-02-29_440.jpg"/>
          <p:cNvPicPr/>
          <p:nvPr/>
        </p:nvPicPr>
        <p:blipFill>
          <a:blip r:embed="rId3"/>
          <a:stretch/>
        </p:blipFill>
        <p:spPr>
          <a:xfrm>
            <a:off x="4495680" y="3200400"/>
            <a:ext cx="42544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KML file for vis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gle 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ween the field and arch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fore sending or receiving metadata from IRIS-D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non-traditional data with 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: SPREE Proje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3 s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, Station, Coord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sition time, instrument type, serial number, pictures and l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be showing a sub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to get from thi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66680" y="541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o th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705720" y="6186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quickly and easi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excelshot.tiff"/>
          <p:cNvPicPr/>
          <p:nvPr/>
        </p:nvPicPr>
        <p:blipFill>
          <a:blip r:embed="rId1"/>
          <a:stretch/>
        </p:blipFill>
        <p:spPr>
          <a:xfrm>
            <a:off x="228600" y="1143000"/>
            <a:ext cx="7381800" cy="464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oogleearthshot.tiff"/>
          <p:cNvPicPr/>
          <p:nvPr/>
        </p:nvPicPr>
        <p:blipFill>
          <a:blip r:embed="rId2"/>
          <a:stretch/>
        </p:blipFill>
        <p:spPr>
          <a:xfrm>
            <a:off x="996840" y="1143000"/>
            <a:ext cx="80168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o a demonstration he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7398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Macs the Excel file must be saved in Excel 95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 format (different platfor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e path changes between Mac/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lans for the Futu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via tablet out in th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zed Weather (complete with ale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Mob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ArcGIS file as input or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owner Contact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deas for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SPREE on Twitter @seismoSPREE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our Facebook page (search superior rift on f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rch “SPREE superior” on google and see what happ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02:52:24Z</dcterms:created>
  <dc:creator>Roxanna Frary</dc:creator>
  <dc:description/>
  <dc:language>en-US</dc:language>
  <cp:lastModifiedBy>Trevor Bollmann</cp:lastModifiedBy>
  <dcterms:modified xsi:type="dcterms:W3CDTF">2011-08-19T04:27:55Z</dcterms:modified>
  <cp:revision>8</cp:revision>
  <dc:subject/>
  <dc:title>KML Converter for Text Files</dc:title>
</cp:coreProperties>
</file>