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0.xml.rels" ContentType="application/vnd.openxmlformats-package.relationships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9.pct" ContentType="image/x-pict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d provides the automation framewor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3606480"/>
            <a:ext cx="10464840" cy="117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03440" indent="-46584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12120" indent="-46620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20800" indent="-46584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29480" indent="-46620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46584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46584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465840">
              <a:spcBef>
                <a:spcPts val="3200"/>
              </a:spcBef>
              <a:buClr>
                <a:srgbClr val="ffffff"/>
              </a:buClr>
              <a:buSzPct val="92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"/>
          </a:bodyPr>
          <a:p>
            <a:pPr marL="311976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3127320" indent="-434880">
              <a:spcBef>
                <a:spcPts val="9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>
              <a:spcBef>
                <a:spcPts val="7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>
              <a:spcBef>
                <a:spcPts val="799"/>
              </a:spcBef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8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8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8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8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1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8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5490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DHI, SOD, and the Processing Model Used by EARS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hilip Crotwel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iversity of South Carolin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" name=""/>
          <p:cNvSpPr/>
          <p:nvPr/>
        </p:nvSpPr>
        <p:spPr>
          <a:xfrm>
            <a:off x="2399040" y="7262640"/>
            <a:ext cx="82152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</a:rPr>
              <a:t>http://www.seis.sc.edu/sod3beta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6108840" y="3213000"/>
            <a:ext cx="8254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?xml version="1.0"?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etworkArm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etworkFind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ame&gt;IRIS_NetworkDC&lt;/name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dns&gt;edu/iris/dmc&lt;/dns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/networkFind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etworkCode&gt;II&lt;/networkCode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printlineChannelProcessor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/networkArm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27388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/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" name=""/>
          <p:cNvSpPr/>
          <p:nvPr/>
        </p:nvSpPr>
        <p:spPr>
          <a:xfrm>
            <a:off x="5969160" y="279360"/>
            <a:ext cx="7035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6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Limit to one network and print each channel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330120" y="2413080"/>
            <a:ext cx="555012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711920" y="609480"/>
            <a:ext cx="4818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Limit to broadband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" name=""/>
          <p:cNvSpPr/>
          <p:nvPr/>
        </p:nvSpPr>
        <p:spPr>
          <a:xfrm>
            <a:off x="5981760" y="2819520"/>
            <a:ext cx="850896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?xml version="1.0"?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etworkArm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etworkFind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ame&gt;IRIS_NetworkDC&lt;/name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dns&gt;edu/iris/dmc&lt;/dns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/networkFind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networkCode&gt;II&lt;/networkCode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bandCode&gt;B&lt;/bandCode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printlineChannelProcessor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/networkArm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852804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/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343080" y="2413080"/>
            <a:ext cx="554976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0066680" y="609480"/>
            <a:ext cx="2547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Event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0" y="2387520"/>
            <a:ext cx="13004640" cy="737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784680" y="2031840"/>
            <a:ext cx="4851360" cy="76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event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eventFind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name&gt;IRIS_EventDC&lt;/na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dns&gt;edu/iris/dmc&lt;/dns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originTimeRang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start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year&gt;2003&lt;/yea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month&gt;1&lt;/month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day&gt;1&lt;/day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start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end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year&gt;2003&lt;/yea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month&gt;1&lt;/month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day&gt;10&lt;/day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endTi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originTimeRang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catalog&gt;WHDF&lt;/catalog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eventFind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printlineEventProcess/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    </a:t>
            </a: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event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07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7e2c"/>
                </a:solidFill>
                <a:latin typeface="Optima"/>
                <a:ea typeface="Optima"/>
              </a:rPr>
              <a:t>&lt;/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7617240" y="609480"/>
            <a:ext cx="483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implest event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8140680" y="3670200"/>
            <a:ext cx="4648320" cy="43941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55680" y="3619440"/>
            <a:ext cx="4102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7061400" y="2171880"/>
            <a:ext cx="522360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7e2c"/>
                </a:solidFill>
                <a:latin typeface="Optima"/>
                <a:ea typeface="Optima"/>
              </a:rPr>
              <a:t>&lt;/eventFinder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7e2c"/>
                </a:solidFill>
                <a:latin typeface="Optima"/>
                <a:ea typeface="Optima"/>
              </a:rPr>
              <a:t>&lt;originOR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ff"/>
                </a:solidFill>
                <a:latin typeface="Optima"/>
                <a:ea typeface="Optima"/>
              </a:rPr>
              <a:t>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originAND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magnitudeRange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min&gt;5.1&lt;/min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/magnitudeRange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originDepthRange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unit&gt;KILOMETER&lt;/unit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min&gt;100&lt;/min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/originDepthRange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    </a:t>
            </a:r>
            <a:r>
              <a:rPr b="0" lang="en-US" sz="2800" spc="-1" strike="noStrike">
                <a:solidFill>
                  <a:srgbClr val="b63844"/>
                </a:solidFill>
                <a:latin typeface="Optima"/>
                <a:ea typeface="Optima"/>
              </a:rPr>
              <a:t>&lt;/originAND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7e2c"/>
                </a:solidFill>
                <a:latin typeface="Optima"/>
                <a:ea typeface="Optima"/>
              </a:rPr>
              <a:t>     </a:t>
            </a:r>
            <a:r>
              <a:rPr b="0" lang="en-US" sz="2800" spc="-1" strike="noStrike">
                <a:solidFill>
                  <a:srgbClr val="004b85"/>
                </a:solidFill>
                <a:latin typeface="Optima"/>
                <a:ea typeface="Optima"/>
              </a:rPr>
              <a:t>&lt;magnitudeRange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b85"/>
                </a:solidFill>
                <a:latin typeface="Optima"/>
                <a:ea typeface="Optima"/>
              </a:rPr>
              <a:t>        </a:t>
            </a:r>
            <a:r>
              <a:rPr b="0" lang="en-US" sz="2800" spc="-1" strike="noStrike">
                <a:solidFill>
                  <a:srgbClr val="004b85"/>
                </a:solidFill>
                <a:latin typeface="Optima"/>
                <a:ea typeface="Optima"/>
              </a:rPr>
              <a:t>&lt;min&gt;6&lt;/min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b85"/>
                </a:solidFill>
                <a:latin typeface="Optima"/>
                <a:ea typeface="Optima"/>
              </a:rPr>
              <a:t>     </a:t>
            </a:r>
            <a:r>
              <a:rPr b="0" lang="en-US" sz="2800" spc="-1" strike="noStrike">
                <a:solidFill>
                  <a:srgbClr val="004b85"/>
                </a:solidFill>
                <a:latin typeface="Optima"/>
                <a:ea typeface="Optima"/>
              </a:rPr>
              <a:t>&lt;/magnitudeRange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7e2c"/>
                </a:solidFill>
                <a:latin typeface="Optima"/>
                <a:ea typeface="Optima"/>
              </a:rPr>
              <a:t>&lt;/originOR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7e2c"/>
                </a:solidFill>
                <a:latin typeface="Optima"/>
                <a:ea typeface="Optima"/>
              </a:rPr>
              <a:t>&lt;printlineEventProcess/&gt;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"/>
          <p:cNvSpPr/>
          <p:nvPr/>
        </p:nvSpPr>
        <p:spPr>
          <a:xfrm>
            <a:off x="9086040" y="609480"/>
            <a:ext cx="3377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Boolean logic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90440" y="3568680"/>
            <a:ext cx="707400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518240" y="609480"/>
            <a:ext cx="5473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5499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More boolean logic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0"/>
            <a:ext cx="12129480" cy="7898400"/>
            <a:chOff x="0" y="0"/>
            <a:chExt cx="12129480" cy="7898400"/>
          </a:xfrm>
        </p:grpSpPr>
        <p:sp>
          <p:nvSpPr>
            <p:cNvPr id="629" name=""/>
            <p:cNvSpPr/>
            <p:nvPr/>
          </p:nvSpPr>
          <p:spPr>
            <a:xfrm>
              <a:off x="5608800" y="6070680"/>
              <a:ext cx="6520680" cy="18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networkOR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   </a:t>
              </a: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networkCode&gt;II&lt;/networkCode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   </a:t>
              </a: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networkCode&gt;IU&lt;/networkCode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/networkOR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3496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"/>
          <p:cNvGrpSpPr/>
          <p:nvPr/>
        </p:nvGrpSpPr>
        <p:grpSpPr>
          <a:xfrm>
            <a:off x="0" y="0"/>
            <a:ext cx="8061120" cy="6322680"/>
            <a:chOff x="0" y="0"/>
            <a:chExt cx="8061120" cy="6322680"/>
          </a:xfrm>
        </p:grpSpPr>
        <p:sp>
          <p:nvSpPr>
            <p:cNvPr id="632" name=""/>
            <p:cNvSpPr/>
            <p:nvPr/>
          </p:nvSpPr>
          <p:spPr>
            <a:xfrm>
              <a:off x="1803240" y="3124440"/>
              <a:ext cx="6257880" cy="31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networkAND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   </a:t>
              </a: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networkCode&gt;II&lt;/networkCode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   </a:t>
              </a: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networkCode&gt;IU&lt;/networkCode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2c7c32"/>
                  </a:solidFill>
                  <a:latin typeface="Optima"/>
                  <a:ea typeface="Optima"/>
                </a:rPr>
                <a:t>&lt;/networkAND&gt;</a:t>
              </a: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3040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8792280" y="609480"/>
            <a:ext cx="374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Waveform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2451240"/>
            <a:ext cx="13004640" cy="73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7051320" y="609480"/>
            <a:ext cx="550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imple waveform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"/>
          <p:cNvSpPr/>
          <p:nvPr/>
        </p:nvSpPr>
        <p:spPr>
          <a:xfrm>
            <a:off x="1638360" y="2514600"/>
            <a:ext cx="4800600" cy="62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*Event Arm from earlier*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*Network Arm from earlier*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waveform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phaseReques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model&gt;prem&lt;/model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beginPhase&gt;ttp&lt;/beginPhase&gt;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	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	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&lt;begin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unit&gt;SECOND&lt;/uni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value&gt;-120&lt;/valu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/begin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endPhase&gt;tts&lt;/endPhas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end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unit&gt;SECOND&lt;/uni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value&gt;360&lt;/valu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/endOffse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68931"/>
                </a:solidFill>
                <a:latin typeface="Optima"/>
                <a:ea typeface="Optima"/>
              </a:rPr>
              <a:t>&lt;/phaseRequest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" name=""/>
          <p:cNvSpPr/>
          <p:nvPr/>
        </p:nvSpPr>
        <p:spPr>
          <a:xfrm>
            <a:off x="6625440" y="2184480"/>
            <a:ext cx="564264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fixedDataCent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name&gt;IRIS_PondDataCenter&lt;/name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dns&gt;edu/iris/dmc&lt;/dns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/fixedDataCenter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printlineSeismogramProcess/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   </a:t>
            </a: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/waveformArm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8932"/>
                </a:solidFill>
                <a:latin typeface="Optima"/>
                <a:ea typeface="Optima"/>
              </a:rPr>
              <a:t>&lt;/sod&gt;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83480" y="5842080"/>
            <a:ext cx="3530520" cy="25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006960" y="609480"/>
            <a:ext cx="68454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870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Distance range subsetter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" name=""/>
          <p:cNvSpPr/>
          <p:nvPr/>
        </p:nvSpPr>
        <p:spPr>
          <a:xfrm>
            <a:off x="511920" y="3327480"/>
            <a:ext cx="54579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waveformArm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   </a:t>
            </a: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distanceRang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       </a:t>
            </a: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unit&gt;DEGREE&lt;/unit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       </a:t>
            </a: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min&gt;30&lt;/min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       </a:t>
            </a: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max&gt;90&lt;/max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   </a:t>
            </a: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/distanceRang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    </a:t>
            </a: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/waveformArm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6261120" y="3276720"/>
            <a:ext cx="635004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5938200" y="3009960"/>
            <a:ext cx="68709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/fixedDataCenter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someCoverage/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&lt;printlineSeismogramProcess/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" name=""/>
          <p:cNvSpPr/>
          <p:nvPr/>
        </p:nvSpPr>
        <p:spPr>
          <a:xfrm>
            <a:off x="8526960" y="609480"/>
            <a:ext cx="396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802f"/>
                </a:solidFill>
                <a:latin typeface="Optima ExtraBlack"/>
                <a:ea typeface="Optima ExtraBlack"/>
              </a:rPr>
              <a:t>Data</a:t>
            </a:r>
            <a:r>
              <a:rPr b="0" lang="en-US" sz="4200" spc="-1" strike="noStrike">
                <a:solidFill>
                  <a:srgbClr val="378932"/>
                </a:solidFill>
                <a:latin typeface="Optima ExtraBlack"/>
                <a:ea typeface="Optima ExtraBlack"/>
              </a:rPr>
              <a:t> </a:t>
            </a:r>
            <a:r>
              <a:rPr b="0" lang="en-US" sz="4200" spc="-1" strike="noStrike">
                <a:solidFill>
                  <a:srgbClr val="33802f"/>
                </a:solidFill>
                <a:latin typeface="Optima ExtraBlack"/>
                <a:ea typeface="Optima ExtraBlack"/>
              </a:rPr>
              <a:t>availability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" name=""/>
          <p:cNvSpPr/>
          <p:nvPr/>
        </p:nvSpPr>
        <p:spPr>
          <a:xfrm>
            <a:off x="6896160" y="5994360"/>
            <a:ext cx="45972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Use &lt;someCoverage/&gt; to avoid process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2f"/>
                </a:solidFill>
                <a:latin typeface="Optima"/>
                <a:ea typeface="Optima"/>
              </a:rPr>
              <a:t>requests that have no dat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88840" y="2374920"/>
            <a:ext cx="4584960" cy="6489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603840" y="6184800"/>
            <a:ext cx="25560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HI Overview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ARS Process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reate your ow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642000" y="279360"/>
            <a:ext cx="6413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3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Automated Processing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3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Framework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" name=""/>
          <p:cNvSpPr/>
          <p:nvPr/>
        </p:nvSpPr>
        <p:spPr>
          <a:xfrm>
            <a:off x="3848040" y="2247840"/>
            <a:ext cx="914400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printlineSeismogramProcess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sacWriter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responseGain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rMean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rTrend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integrate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sacWrit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workingDir&gt;processed&lt;/workingDi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9163080"/>
                <a:tab algn="l" pos="10058400"/>
              </a:tabLst>
            </a:pPr>
            <a:r>
              <a:rPr b="0" lang="en-US" sz="3000" spc="-1" strike="noStrike">
                <a:solidFill>
                  <a:srgbClr val="0d7e2b"/>
                </a:solidFill>
                <a:latin typeface="Optima"/>
                <a:ea typeface="Optima"/>
              </a:rPr>
              <a:t>&lt;/sacWriter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6464160"/>
            <a:ext cx="130046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34480" y="609480"/>
            <a:ext cx="545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802f"/>
                </a:solidFill>
                <a:latin typeface="Optima ExtraBlack"/>
                <a:ea typeface="Optima ExtraBlack"/>
              </a:rPr>
              <a:t>Waveform vector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1506240" y="0"/>
            <a:ext cx="9990720" cy="3051000"/>
            <a:chOff x="1506240" y="0"/>
            <a:chExt cx="9990720" cy="3051000"/>
          </a:xfrm>
        </p:grpSpPr>
        <p:sp>
          <p:nvSpPr>
            <p:cNvPr id="659" name=""/>
            <p:cNvSpPr/>
            <p:nvPr/>
          </p:nvSpPr>
          <p:spPr>
            <a:xfrm>
              <a:off x="1506240" y="2502000"/>
              <a:ext cx="9990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802f"/>
                  </a:solidFill>
                  <a:latin typeface="Optima"/>
                  <a:ea typeface="Optima"/>
                </a:rPr>
                <a:t>&lt;waveformArm&gt;            &lt;waveformVectorArm&gt;</a:t>
              </a:r>
              <a:endParaRPr b="0" lang="en-US" sz="36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2"/>
            <a:stretch/>
          </p:blipFill>
          <p:spPr>
            <a:xfrm>
              <a:off x="3581280" y="0"/>
              <a:ext cx="107964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0" y="3416400"/>
            <a:ext cx="1300464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Ed Wants...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vent Stuff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 Lon box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40976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 40 to 55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40976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on 150 to 16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pth 100 to 500 k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ag &gt; 6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888840" y="1047600"/>
            <a:ext cx="11214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events -R 150/160/40/55 -b 2009-04-01 -e 2009-04-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2870280"/>
            <a:ext cx="12990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154.8190 48.3890 46.9 2009_096_09_47_39_720 5.1MB151.2110 46.0360 75.5 2009_097_01_39_01_760 4.9MB151.5480 46.0490 31 2009_097_04_23_33_150 6.5MB151.8580 46.2040 59.5 2009_097_05_29_47_960 4.7MB151.6090 45.9960 65.1 2009_097_07_53_12_940 4.7MB151.9190 46.0890 60 2009_097_09_15_00_050 4.3MB151.8640 46.0840 48.4 2009_097_18_38_05_530 4.7MB151.9600 45.8400 30.7 2009_097_20_46_34_970 4.5MB151.5690 46.1610 46.3 2009_098_00_59_15_450 5.2MB151.6010 46.0040 63.7 2009_098_08_54_34_300 4.7MB151.7300 45.9830 42.9 2009_098_16_17_56_490 5.0MB151.8780 46.2220 65.7 2009_098_20_50_39_720 4.8MB151.7900 46.1340 62.1 2009_100_03_10_21_960 5.1MB151.8660 45.4470 16.9 2009_100_14_55_54_120 4.7M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888840" y="1047600"/>
            <a:ext cx="11214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events -R 150/160/40/55 -b 2009-04-01 -e 2009-04-30 -m 6 -D 10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" name=""/>
          <p:cNvSpPr/>
          <p:nvPr/>
        </p:nvSpPr>
        <p:spPr>
          <a:xfrm>
            <a:off x="11160" y="4533840"/>
            <a:ext cx="1299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  <a:ea typeface="Chalkboard"/>
              </a:rPr>
              <a:t>155.0090 50.8330 152 2009_111_05_26_11_520 6.0MB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Network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A network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roadband Only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888840" y="1047600"/>
            <a:ext cx="11214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stations -n TA -b 2009-04-01 -e 2009-04-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2476440"/>
            <a:ext cx="1299060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117.1051  32.8889 150. 109C-106.9211  34.0741 1436. Y22C-120.8699  35.6360 431. V04C-121.5514  36.3887 542. HAST-121.2675  44.1626 1011. I05A-123.7714  47.1161 31. D03A-122.7070  48.7197 23. A04A-114.5238  33.7503 196. Y12C-120.7828  36.3627 813. U04C-120.1205  36.3356 92. U05C-119.7089  37.0069 216. T06C-120.9363  38.2571 115. R04C-120.7395  38.7552 828. LAVA-121.3769  38.8390 14. Q04C-121.3278  37.5049 310. S04C-119.0228  36.6801 1145. HE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400480" y="4013280"/>
            <a:ext cx="7403760" cy="4190760"/>
          </a:xfrm>
          <a:prstGeom prst="roundRect">
            <a:avLst>
              <a:gd name="adj" fmla="val 454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" name=""/>
          <p:cNvSpPr/>
          <p:nvPr/>
        </p:nvSpPr>
        <p:spPr>
          <a:xfrm>
            <a:off x="888840" y="228600"/>
            <a:ext cx="112143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stations -n TA |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psxy -R-125/-65/25/50 -JM6 -B5 -St.05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-Gblue -K -P &gt; ta_map.ps ;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pscoast -R -JM -O -S220 -N1 -N2 &gt;&gt; ta_map.p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2425680" y="-16128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88840" y="1320840"/>
            <a:ext cx="1121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channels -n TA -c 'BH?'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2279520"/>
            <a:ext cx="1299060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117.1051  32.8889 150. TA.109C.  .BHE 88.0 0.0 2004-05-04 2005-03-03-117.1051  32.8889 150. TA.109C.  .BHE 88.0 0.0 2005-04-11 2007-08-30-117.1051  32.8889 150. TA.109C.  .BHE 88.0 0.0 2007-08-30 2007-08-31-117.1051  32.8889 150. TA.109C.  .BHE 90.0 0.0 2007-08-31 2599-12-31-117.1051  32.8889 150. TA.109C.  .BHN 0.0 0.0 2007-08-31 2599-12-31-117.1051  32.8889 150. TA.109C.  .BHN 358.0 0.0 2004-05-04 2005-03-03-117.1051  32.8889 150. TA.109C.  .BHN 358.0 0.0 2005-04-11 2007-08-30-117.1051  32.8889 150. TA.109C.  .BHN 358.0 0.0 2007-08-30 2007-08-31-117.1051  32.8889 150. TA.109C.  .BHZ 0.0 -90.0 2007-08-31 2599-12-31-117.1051  32.8889 150. TA.109C.  .BHZ 0.0 -90.0 2004-05-04 2005-03-03-117.1051  32.8889 150. TA.109C.  .BHZ 0.0 -90.0 2005-04-11 2007-08-30-117.1051  32.8889 150. TA.109C.  .BHZ 0.0 -90.0 2007-08-30 2007-08-31-106.9211  34.0741 1436. TA.Y22C.  .BHE 84.0 0.0 2004-05-07 2004-06-22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-106.9211  34.0741 1436. TA.Y22C.  .BHE 84.0 0.0 2004-06-22 2006-12-24-106.9211  34.0741 1436. TA.Y22C.  .BHE 84.0 0.0 2007-03-31 2007-06-02-106.9211  34.0741 1436. TA.Y22C.  .BHE 84.0 0.0 2006-12-24 2007-03-31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50760" y="0"/>
            <a:ext cx="11328480" cy="8788320"/>
            <a:chOff x="50760" y="0"/>
            <a:chExt cx="11328480" cy="8788320"/>
          </a:xfrm>
        </p:grpSpPr>
        <p:sp>
          <p:nvSpPr>
            <p:cNvPr id="578" name=""/>
            <p:cNvSpPr/>
            <p:nvPr/>
          </p:nvSpPr>
          <p:spPr>
            <a:xfrm>
              <a:off x="1447920" y="2806560"/>
              <a:ext cx="9931320" cy="5981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2"/>
            <a:stretch/>
          </p:blipFill>
          <p:spPr>
            <a:xfrm>
              <a:off x="50760" y="0"/>
              <a:ext cx="10058400" cy="777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Y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1000"/>
          </a:bodyPr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1238400"/>
            <a:ext cx="1268748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events -R 150/160/40/55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-b 2009-04-01 -e 2009-04-30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-m 6 -D 100 -r |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channels -n TA -c'BH?’-r|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find_seismograms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-B -5ttp -E 45ttp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--mark-phases P-0,pP-1,S-2,sS-3,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PP-4,SS-5,Pdiff-6,Sdiff-7,SKS-8,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ScS-9 -r  &gt; ed.xml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2280" y="4184640"/>
            <a:ext cx="1268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bin/sod -p cwg.prop -f ed.xml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51000"/>
          </a:bodyPr>
          <a:p>
            <a:pPr marL="440280" indent="-207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600200" y="2971440"/>
            <a:ext cx="698400" cy="495720"/>
            <a:chOff x="1600200" y="2971440"/>
            <a:chExt cx="698400" cy="495720"/>
          </a:xfrm>
        </p:grpSpPr>
        <p:sp>
          <p:nvSpPr>
            <p:cNvPr id="685" name=""/>
            <p:cNvSpPr/>
            <p:nvPr/>
          </p:nvSpPr>
          <p:spPr>
            <a:xfrm flipV="1">
              <a:off x="171468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0020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600200" y="3974760"/>
            <a:ext cx="698400" cy="495720"/>
            <a:chOff x="1600200" y="3974760"/>
            <a:chExt cx="698400" cy="495720"/>
          </a:xfrm>
        </p:grpSpPr>
        <p:sp>
          <p:nvSpPr>
            <p:cNvPr id="688" name=""/>
            <p:cNvSpPr/>
            <p:nvPr/>
          </p:nvSpPr>
          <p:spPr>
            <a:xfrm flipV="1">
              <a:off x="171468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0020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600200" y="4851000"/>
            <a:ext cx="698400" cy="495720"/>
            <a:chOff x="1600200" y="4851000"/>
            <a:chExt cx="698400" cy="495720"/>
          </a:xfrm>
        </p:grpSpPr>
        <p:sp>
          <p:nvSpPr>
            <p:cNvPr id="691" name=""/>
            <p:cNvSpPr/>
            <p:nvPr/>
          </p:nvSpPr>
          <p:spPr>
            <a:xfrm flipV="1">
              <a:off x="171468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0020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997680" y="6870240"/>
            <a:ext cx="698400" cy="495720"/>
            <a:chOff x="6997680" y="6870240"/>
            <a:chExt cx="698400" cy="495720"/>
          </a:xfrm>
        </p:grpSpPr>
        <p:sp>
          <p:nvSpPr>
            <p:cNvPr id="694" name=""/>
            <p:cNvSpPr/>
            <p:nvPr/>
          </p:nvSpPr>
          <p:spPr>
            <a:xfrm flipV="1">
              <a:off x="7112160" y="6870240"/>
              <a:ext cx="583920" cy="4935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97680" y="7149960"/>
              <a:ext cx="139680" cy="2160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997680" y="7835400"/>
            <a:ext cx="698400" cy="495720"/>
            <a:chOff x="6997680" y="7835400"/>
            <a:chExt cx="698400" cy="495720"/>
          </a:xfrm>
        </p:grpSpPr>
        <p:sp>
          <p:nvSpPr>
            <p:cNvPr id="697" name=""/>
            <p:cNvSpPr/>
            <p:nvPr/>
          </p:nvSpPr>
          <p:spPr>
            <a:xfrm flipV="1">
              <a:off x="7112160" y="7835400"/>
              <a:ext cx="583920" cy="4935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97680" y="8115120"/>
              <a:ext cx="139680" cy="2160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898640" y="1397160"/>
            <a:ext cx="11099880" cy="83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sacWriter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workingDir&gt;&lt;/workingDir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  </a:t>
            </a: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&lt;location&gt;seismograms/Event_${event.getTime('yyyy_DDD_HH_mm_ss')}/${channel.codes}${index}.sac&lt;/location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location&gt;seismograms/${event.getTime('yyyyMMddHHmm')}/${event.getTime('yyyyMMddHHmm')}.${net.code}.${station.code}.${channel.code}${index}.sac&lt;/location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" name=""/>
          <p:cNvSpPr/>
          <p:nvPr/>
        </p:nvSpPr>
        <p:spPr>
          <a:xfrm>
            <a:off x="4140000" y="534600"/>
            <a:ext cx="4707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Dir By Event,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YYYYMMDDHHM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797120" y="2743200"/>
            <a:ext cx="1109988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printlineSeismogramProcess&gt;   </a:t>
            </a: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&lt;template&gt;Got $seismograms.size()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template&gt;${channel.station.code} ...                       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filename&gt;seismograms/${event.getTime('yyyyMMddHHmm')}/eventStation.txt&lt;/filename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"/>
          <p:cNvSpPr/>
          <p:nvPr/>
        </p:nvSpPr>
        <p:spPr>
          <a:xfrm>
            <a:off x="4250520" y="854280"/>
            <a:ext cx="448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Text file per Event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797120" y="2057400"/>
            <a:ext cx="1109988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ORWaveformProcessWrapper&gt;   &lt;seismogramAND&gt;      &lt;embeddedChannel&gt;        &lt;orientationCode&gt;Z&lt;orientationCode&gt;      &lt;/embeddedChannel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printlineSeismogramProcess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/seismogramAND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/ORWaveformProcessWrapper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" name=""/>
          <p:cNvSpPr/>
          <p:nvPr/>
        </p:nvSpPr>
        <p:spPr>
          <a:xfrm>
            <a:off x="4204800" y="854280"/>
            <a:ext cx="457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Text File per Event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51000"/>
          </a:bodyPr>
          <a:p>
            <a:pPr marL="440280" indent="-207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600200" y="2971440"/>
            <a:ext cx="698400" cy="495720"/>
            <a:chOff x="1600200" y="2971440"/>
            <a:chExt cx="698400" cy="495720"/>
          </a:xfrm>
        </p:grpSpPr>
        <p:sp>
          <p:nvSpPr>
            <p:cNvPr id="708" name=""/>
            <p:cNvSpPr/>
            <p:nvPr/>
          </p:nvSpPr>
          <p:spPr>
            <a:xfrm flipV="1">
              <a:off x="171468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0020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600200" y="3974760"/>
            <a:ext cx="698400" cy="495720"/>
            <a:chOff x="1600200" y="3974760"/>
            <a:chExt cx="698400" cy="495720"/>
          </a:xfrm>
        </p:grpSpPr>
        <p:sp>
          <p:nvSpPr>
            <p:cNvPr id="711" name=""/>
            <p:cNvSpPr/>
            <p:nvPr/>
          </p:nvSpPr>
          <p:spPr>
            <a:xfrm flipV="1">
              <a:off x="171468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0020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600200" y="4851000"/>
            <a:ext cx="698400" cy="495720"/>
            <a:chOff x="1600200" y="4851000"/>
            <a:chExt cx="698400" cy="495720"/>
          </a:xfrm>
        </p:grpSpPr>
        <p:sp>
          <p:nvSpPr>
            <p:cNvPr id="714" name=""/>
            <p:cNvSpPr/>
            <p:nvPr/>
          </p:nvSpPr>
          <p:spPr>
            <a:xfrm flipV="1">
              <a:off x="171468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0020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997680" y="6870240"/>
            <a:ext cx="698400" cy="495720"/>
            <a:chOff x="6997680" y="6870240"/>
            <a:chExt cx="698400" cy="495720"/>
          </a:xfrm>
        </p:grpSpPr>
        <p:sp>
          <p:nvSpPr>
            <p:cNvPr id="717" name=""/>
            <p:cNvSpPr/>
            <p:nvPr/>
          </p:nvSpPr>
          <p:spPr>
            <a:xfrm flipV="1">
              <a:off x="7112160" y="68702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97680" y="71499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6997680" y="7822800"/>
            <a:ext cx="698400" cy="495720"/>
            <a:chOff x="6997680" y="7822800"/>
            <a:chExt cx="698400" cy="495720"/>
          </a:xfrm>
        </p:grpSpPr>
        <p:sp>
          <p:nvSpPr>
            <p:cNvPr id="720" name=""/>
            <p:cNvSpPr/>
            <p:nvPr/>
          </p:nvSpPr>
          <p:spPr>
            <a:xfrm flipV="1">
              <a:off x="7112160" y="78228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97680" y="81025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722" name=""/>
          <p:cNvSpPr/>
          <p:nvPr/>
        </p:nvSpPr>
        <p:spPr>
          <a:xfrm flipH="1">
            <a:off x="6591240" y="5194440"/>
            <a:ext cx="533520" cy="10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6591240" y="4241880"/>
            <a:ext cx="533520" cy="111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-10721160" y="4275720"/>
            <a:ext cx="34431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waveformArm&gt;     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removeStationDuplicate&gt;            &lt;maxDistance&gt;                &lt;value&gt;10&lt;/value&gt;                &lt;unit&gt;KILOMETER&lt;/unit&gt;            &lt;/maxDistance&gt;        &lt;/removeStationDuplicate&gt;        &lt;bestChannelAtStation/&gt;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&lt;phaseRequest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5" name=""/>
          <p:cNvSpPr/>
          <p:nvPr/>
        </p:nvSpPr>
        <p:spPr>
          <a:xfrm>
            <a:off x="1403280" y="854280"/>
            <a:ext cx="1018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No Dup Station, Best Channels at Station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51000"/>
          </a:bodyPr>
          <a:p>
            <a:pPr marL="440280" indent="-207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600200" y="2971440"/>
            <a:ext cx="698400" cy="495720"/>
            <a:chOff x="1600200" y="2971440"/>
            <a:chExt cx="698400" cy="495720"/>
          </a:xfrm>
        </p:grpSpPr>
        <p:sp>
          <p:nvSpPr>
            <p:cNvPr id="729" name=""/>
            <p:cNvSpPr/>
            <p:nvPr/>
          </p:nvSpPr>
          <p:spPr>
            <a:xfrm flipV="1">
              <a:off x="171468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020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600200" y="3974760"/>
            <a:ext cx="698400" cy="495720"/>
            <a:chOff x="1600200" y="3974760"/>
            <a:chExt cx="698400" cy="495720"/>
          </a:xfrm>
        </p:grpSpPr>
        <p:sp>
          <p:nvSpPr>
            <p:cNvPr id="732" name=""/>
            <p:cNvSpPr/>
            <p:nvPr/>
          </p:nvSpPr>
          <p:spPr>
            <a:xfrm flipV="1">
              <a:off x="171468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0020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600200" y="4851000"/>
            <a:ext cx="698400" cy="495720"/>
            <a:chOff x="1600200" y="4851000"/>
            <a:chExt cx="698400" cy="495720"/>
          </a:xfrm>
        </p:grpSpPr>
        <p:sp>
          <p:nvSpPr>
            <p:cNvPr id="735" name=""/>
            <p:cNvSpPr/>
            <p:nvPr/>
          </p:nvSpPr>
          <p:spPr>
            <a:xfrm flipV="1">
              <a:off x="171468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0020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023240" y="3974760"/>
            <a:ext cx="698400" cy="495720"/>
            <a:chOff x="7023240" y="3974760"/>
            <a:chExt cx="698400" cy="495720"/>
          </a:xfrm>
        </p:grpSpPr>
        <p:sp>
          <p:nvSpPr>
            <p:cNvPr id="738" name=""/>
            <p:cNvSpPr/>
            <p:nvPr/>
          </p:nvSpPr>
          <p:spPr>
            <a:xfrm flipV="1">
              <a:off x="713772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2324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7023240" y="4851000"/>
            <a:ext cx="698400" cy="495720"/>
            <a:chOff x="7023240" y="4851000"/>
            <a:chExt cx="698400" cy="495720"/>
          </a:xfrm>
        </p:grpSpPr>
        <p:sp>
          <p:nvSpPr>
            <p:cNvPr id="741" name=""/>
            <p:cNvSpPr/>
            <p:nvPr/>
          </p:nvSpPr>
          <p:spPr>
            <a:xfrm flipV="1">
              <a:off x="713772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2324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3240" y="6832080"/>
            <a:ext cx="698400" cy="495720"/>
            <a:chOff x="7023240" y="6832080"/>
            <a:chExt cx="698400" cy="495720"/>
          </a:xfrm>
        </p:grpSpPr>
        <p:sp>
          <p:nvSpPr>
            <p:cNvPr id="744" name=""/>
            <p:cNvSpPr/>
            <p:nvPr/>
          </p:nvSpPr>
          <p:spPr>
            <a:xfrm flipV="1">
              <a:off x="7137720" y="683208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23240" y="711180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746" name=""/>
          <p:cNvSpPr/>
          <p:nvPr/>
        </p:nvSpPr>
        <p:spPr>
          <a:xfrm flipH="1">
            <a:off x="6591240" y="3289320"/>
            <a:ext cx="533520" cy="111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155600" y="8128080"/>
            <a:ext cx="533520" cy="111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1155600" y="6222960"/>
            <a:ext cx="533520" cy="111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issures/DHI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9537840" y="952560"/>
            <a:ext cx="2273040" cy="9525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RBA base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ny languag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vent, Network and Seismogram server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-5587920" y="4275720"/>
            <a:ext cx="214264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/fixedDataCenter&gt;        &lt;someCoverage/&gt;     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merge/&gt;        &lt;collapseOverlaps/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Lucida Grande"/>
              </a:rPr>
              <a:t>    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Lucida Grande"/>
              </a:rPr>
              <a:t>&lt;sacWriter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Lucida Grande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0" name=""/>
          <p:cNvSpPr/>
          <p:nvPr/>
        </p:nvSpPr>
        <p:spPr>
          <a:xfrm>
            <a:off x="3736800" y="854280"/>
            <a:ext cx="5515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No Gaps, No Overlaps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230840" y="3041280"/>
            <a:ext cx="10549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  </a:t>
            </a: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&lt;someCoverage/&gt;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subrequestCoverag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  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phaseRequest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     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beginPhase&gt;ttp&lt;/beginPhas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     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beginOffset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     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unit&gt;MINUTE&lt;/unit&gt;&lt;value&gt;5&lt;/valu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    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/beginOffset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 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...end similar, ttp 9 min..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   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/phaseRequest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  <a:ea typeface="Chalkboard"/>
              </a:rPr>
              <a:t>&lt;/subrequestCoverag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2" name=""/>
          <p:cNvSpPr/>
          <p:nvPr/>
        </p:nvSpPr>
        <p:spPr>
          <a:xfrm>
            <a:off x="3926520" y="808920"/>
            <a:ext cx="4997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  <a:ea typeface="Chalkboard"/>
              </a:rPr>
              <a:t>Covers P-5 to P+9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51000"/>
          </a:bodyPr>
          <a:p>
            <a:pPr marL="440280" indent="-207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600200" y="2971440"/>
            <a:ext cx="698400" cy="495720"/>
            <a:chOff x="1600200" y="2971440"/>
            <a:chExt cx="698400" cy="495720"/>
          </a:xfrm>
        </p:grpSpPr>
        <p:sp>
          <p:nvSpPr>
            <p:cNvPr id="756" name=""/>
            <p:cNvSpPr/>
            <p:nvPr/>
          </p:nvSpPr>
          <p:spPr>
            <a:xfrm flipV="1">
              <a:off x="171468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020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00200" y="3974760"/>
            <a:ext cx="698400" cy="495720"/>
            <a:chOff x="1600200" y="3974760"/>
            <a:chExt cx="698400" cy="495720"/>
          </a:xfrm>
        </p:grpSpPr>
        <p:sp>
          <p:nvSpPr>
            <p:cNvPr id="759" name=""/>
            <p:cNvSpPr/>
            <p:nvPr/>
          </p:nvSpPr>
          <p:spPr>
            <a:xfrm flipV="1">
              <a:off x="171468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0020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1600200" y="4851000"/>
            <a:ext cx="698400" cy="495720"/>
            <a:chOff x="1600200" y="4851000"/>
            <a:chExt cx="698400" cy="495720"/>
          </a:xfrm>
        </p:grpSpPr>
        <p:sp>
          <p:nvSpPr>
            <p:cNvPr id="762" name=""/>
            <p:cNvSpPr/>
            <p:nvPr/>
          </p:nvSpPr>
          <p:spPr>
            <a:xfrm flipV="1">
              <a:off x="171468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0020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023240" y="3974760"/>
            <a:ext cx="698400" cy="495720"/>
            <a:chOff x="7023240" y="3974760"/>
            <a:chExt cx="698400" cy="495720"/>
          </a:xfrm>
        </p:grpSpPr>
        <p:sp>
          <p:nvSpPr>
            <p:cNvPr id="765" name=""/>
            <p:cNvSpPr/>
            <p:nvPr/>
          </p:nvSpPr>
          <p:spPr>
            <a:xfrm flipV="1">
              <a:off x="713772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2324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7023240" y="4851000"/>
            <a:ext cx="698400" cy="495720"/>
            <a:chOff x="7023240" y="4851000"/>
            <a:chExt cx="698400" cy="495720"/>
          </a:xfrm>
        </p:grpSpPr>
        <p:sp>
          <p:nvSpPr>
            <p:cNvPr id="768" name=""/>
            <p:cNvSpPr/>
            <p:nvPr/>
          </p:nvSpPr>
          <p:spPr>
            <a:xfrm flipV="1">
              <a:off x="713772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2324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023240" y="2971440"/>
            <a:ext cx="698400" cy="495720"/>
            <a:chOff x="7023240" y="2971440"/>
            <a:chExt cx="698400" cy="495720"/>
          </a:xfrm>
        </p:grpSpPr>
        <p:sp>
          <p:nvSpPr>
            <p:cNvPr id="771" name=""/>
            <p:cNvSpPr/>
            <p:nvPr/>
          </p:nvSpPr>
          <p:spPr>
            <a:xfrm flipV="1">
              <a:off x="713772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2324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1600200" y="7848360"/>
            <a:ext cx="698400" cy="495720"/>
            <a:chOff x="1600200" y="7848360"/>
            <a:chExt cx="698400" cy="495720"/>
          </a:xfrm>
        </p:grpSpPr>
        <p:sp>
          <p:nvSpPr>
            <p:cNvPr id="774" name=""/>
            <p:cNvSpPr/>
            <p:nvPr/>
          </p:nvSpPr>
          <p:spPr>
            <a:xfrm flipV="1">
              <a:off x="1714680" y="78483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00200" y="81280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1600200" y="5905080"/>
            <a:ext cx="698400" cy="495720"/>
            <a:chOff x="1600200" y="5905080"/>
            <a:chExt cx="698400" cy="495720"/>
          </a:xfrm>
        </p:grpSpPr>
        <p:sp>
          <p:nvSpPr>
            <p:cNvPr id="777" name=""/>
            <p:cNvSpPr/>
            <p:nvPr/>
          </p:nvSpPr>
          <p:spPr>
            <a:xfrm flipV="1">
              <a:off x="1714680" y="590508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00200" y="618480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7023240" y="6870240"/>
            <a:ext cx="698400" cy="495720"/>
            <a:chOff x="7023240" y="6870240"/>
            <a:chExt cx="698400" cy="495720"/>
          </a:xfrm>
        </p:grpSpPr>
        <p:sp>
          <p:nvSpPr>
            <p:cNvPr id="780" name=""/>
            <p:cNvSpPr/>
            <p:nvPr/>
          </p:nvSpPr>
          <p:spPr>
            <a:xfrm flipV="1">
              <a:off x="7137720" y="68702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23240" y="71499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7023240" y="7848360"/>
            <a:ext cx="698400" cy="495720"/>
            <a:chOff x="7023240" y="7848360"/>
            <a:chExt cx="698400" cy="495720"/>
          </a:xfrm>
        </p:grpSpPr>
        <p:sp>
          <p:nvSpPr>
            <p:cNvPr id="783" name=""/>
            <p:cNvSpPr/>
            <p:nvPr/>
          </p:nvSpPr>
          <p:spPr>
            <a:xfrm flipV="1">
              <a:off x="7137720" y="78483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23240" y="81280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785" name=""/>
          <p:cNvSpPr/>
          <p:nvPr/>
        </p:nvSpPr>
        <p:spPr>
          <a:xfrm flipH="1">
            <a:off x="1117440" y="7149960"/>
            <a:ext cx="533520" cy="111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898640" y="2768760"/>
            <a:ext cx="1109988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/networkArm&gt;</a:t>
            </a: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    &lt;waveformArm&gt;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    &lt;waveformVectorArm&gt;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   </a:t>
            </a: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&lt;/waveformArm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/waveformVectorArm&gt;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/sod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"/>
          <p:cNvSpPr/>
          <p:nvPr/>
        </p:nvSpPr>
        <p:spPr>
          <a:xfrm>
            <a:off x="4811400" y="854280"/>
            <a:ext cx="336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Rotate to RTZ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898640" y="3111480"/>
            <a:ext cx="1109988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&lt;responseGain/&gt;        &lt;merge/&gt;        &lt;collapseOverlaps/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rotateGCP/&gt;</a:t>
            </a: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        &lt;sacWriter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"/>
          <p:cNvSpPr/>
          <p:nvPr/>
        </p:nvSpPr>
        <p:spPr>
          <a:xfrm>
            <a:off x="4811400" y="854280"/>
            <a:ext cx="336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Rotate to RTZ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51000"/>
          </a:bodyPr>
          <a:p>
            <a:pPr marL="440280" indent="-207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600200" y="2971440"/>
            <a:ext cx="698400" cy="495720"/>
            <a:chOff x="1600200" y="2971440"/>
            <a:chExt cx="698400" cy="495720"/>
          </a:xfrm>
        </p:grpSpPr>
        <p:sp>
          <p:nvSpPr>
            <p:cNvPr id="793" name=""/>
            <p:cNvSpPr/>
            <p:nvPr/>
          </p:nvSpPr>
          <p:spPr>
            <a:xfrm flipV="1">
              <a:off x="171468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0020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1600200" y="3974760"/>
            <a:ext cx="698400" cy="495720"/>
            <a:chOff x="1600200" y="3974760"/>
            <a:chExt cx="698400" cy="495720"/>
          </a:xfrm>
        </p:grpSpPr>
        <p:sp>
          <p:nvSpPr>
            <p:cNvPr id="796" name=""/>
            <p:cNvSpPr/>
            <p:nvPr/>
          </p:nvSpPr>
          <p:spPr>
            <a:xfrm flipV="1">
              <a:off x="171468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0020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1600200" y="4851000"/>
            <a:ext cx="698400" cy="495720"/>
            <a:chOff x="1600200" y="4851000"/>
            <a:chExt cx="698400" cy="495720"/>
          </a:xfrm>
        </p:grpSpPr>
        <p:sp>
          <p:nvSpPr>
            <p:cNvPr id="799" name=""/>
            <p:cNvSpPr/>
            <p:nvPr/>
          </p:nvSpPr>
          <p:spPr>
            <a:xfrm flipV="1">
              <a:off x="171468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0020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7023240" y="3974760"/>
            <a:ext cx="698400" cy="495720"/>
            <a:chOff x="7023240" y="3974760"/>
            <a:chExt cx="698400" cy="495720"/>
          </a:xfrm>
        </p:grpSpPr>
        <p:sp>
          <p:nvSpPr>
            <p:cNvPr id="802" name=""/>
            <p:cNvSpPr/>
            <p:nvPr/>
          </p:nvSpPr>
          <p:spPr>
            <a:xfrm flipV="1">
              <a:off x="713772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2324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023240" y="4851000"/>
            <a:ext cx="698400" cy="495720"/>
            <a:chOff x="7023240" y="4851000"/>
            <a:chExt cx="698400" cy="495720"/>
          </a:xfrm>
        </p:grpSpPr>
        <p:sp>
          <p:nvSpPr>
            <p:cNvPr id="805" name=""/>
            <p:cNvSpPr/>
            <p:nvPr/>
          </p:nvSpPr>
          <p:spPr>
            <a:xfrm flipV="1">
              <a:off x="713772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2324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7023240" y="2971440"/>
            <a:ext cx="698400" cy="495720"/>
            <a:chOff x="7023240" y="2971440"/>
            <a:chExt cx="698400" cy="495720"/>
          </a:xfrm>
        </p:grpSpPr>
        <p:sp>
          <p:nvSpPr>
            <p:cNvPr id="808" name=""/>
            <p:cNvSpPr/>
            <p:nvPr/>
          </p:nvSpPr>
          <p:spPr>
            <a:xfrm flipV="1">
              <a:off x="713772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2324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1600200" y="7848360"/>
            <a:ext cx="698400" cy="495720"/>
            <a:chOff x="1600200" y="7848360"/>
            <a:chExt cx="698400" cy="495720"/>
          </a:xfrm>
        </p:grpSpPr>
        <p:sp>
          <p:nvSpPr>
            <p:cNvPr id="811" name=""/>
            <p:cNvSpPr/>
            <p:nvPr/>
          </p:nvSpPr>
          <p:spPr>
            <a:xfrm flipV="1">
              <a:off x="1714680" y="78483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600200" y="81280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1600200" y="6845040"/>
            <a:ext cx="698400" cy="495720"/>
            <a:chOff x="1600200" y="6845040"/>
            <a:chExt cx="698400" cy="495720"/>
          </a:xfrm>
        </p:grpSpPr>
        <p:sp>
          <p:nvSpPr>
            <p:cNvPr id="814" name=""/>
            <p:cNvSpPr/>
            <p:nvPr/>
          </p:nvSpPr>
          <p:spPr>
            <a:xfrm flipV="1">
              <a:off x="1714680" y="68450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00200" y="71247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1600200" y="5905080"/>
            <a:ext cx="698400" cy="495720"/>
            <a:chOff x="1600200" y="5905080"/>
            <a:chExt cx="698400" cy="495720"/>
          </a:xfrm>
        </p:grpSpPr>
        <p:sp>
          <p:nvSpPr>
            <p:cNvPr id="817" name=""/>
            <p:cNvSpPr/>
            <p:nvPr/>
          </p:nvSpPr>
          <p:spPr>
            <a:xfrm flipV="1">
              <a:off x="1714680" y="590508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00200" y="618480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023240" y="6845040"/>
            <a:ext cx="698400" cy="495720"/>
            <a:chOff x="7023240" y="6845040"/>
            <a:chExt cx="698400" cy="495720"/>
          </a:xfrm>
        </p:grpSpPr>
        <p:sp>
          <p:nvSpPr>
            <p:cNvPr id="820" name=""/>
            <p:cNvSpPr/>
            <p:nvPr/>
          </p:nvSpPr>
          <p:spPr>
            <a:xfrm flipV="1">
              <a:off x="7137720" y="68450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23240" y="71247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023240" y="7848360"/>
            <a:ext cx="698400" cy="495720"/>
            <a:chOff x="7023240" y="7848360"/>
            <a:chExt cx="698400" cy="495720"/>
          </a:xfrm>
        </p:grpSpPr>
        <p:sp>
          <p:nvSpPr>
            <p:cNvPr id="823" name=""/>
            <p:cNvSpPr/>
            <p:nvPr/>
          </p:nvSpPr>
          <p:spPr>
            <a:xfrm flipV="1">
              <a:off x="7137720" y="78483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23240" y="81280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825" name=""/>
          <p:cNvSpPr/>
          <p:nvPr/>
        </p:nvSpPr>
        <p:spPr>
          <a:xfrm flipH="1">
            <a:off x="6553080" y="6210360"/>
            <a:ext cx="533520" cy="111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898640" y="2768760"/>
            <a:ext cx="1109988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halkboard"/>
                <a:ea typeface="Chalkboard"/>
              </a:rPr>
              <a:t>&lt;responseGain/&gt;</a:t>
            </a: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rMean/&gt;&lt;rTrend/&gt;&lt;taper/&gt;&lt;transferResponse&gt;   &lt;lowCut&gt;0.001&lt;/lowCut&gt;   &lt;lowPass&gt;0.005&lt;/lowPass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Chalkboard"/>
                <a:ea typeface="Chalkboard"/>
              </a:rPr>
              <a:t>&lt;/transferResponse&gt;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7" name=""/>
          <p:cNvSpPr/>
          <p:nvPr/>
        </p:nvSpPr>
        <p:spPr>
          <a:xfrm>
            <a:off x="4606920" y="808920"/>
            <a:ext cx="4738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  <a:ea typeface="Chalkboard"/>
              </a:rPr>
              <a:t>Deconvolve resp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avefor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 fontScale="51000"/>
          </a:bodyPr>
          <a:p>
            <a:pPr marL="440280" indent="-2070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ac fil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ival ti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-5 to P+45 minut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vers P-5 to P+9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otate to RTZ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G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overlap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Dup stati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Best Channel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convolve res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ir by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440280" indent="-2070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xt file per even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600200" y="2971440"/>
            <a:ext cx="698400" cy="495720"/>
            <a:chOff x="1600200" y="2971440"/>
            <a:chExt cx="698400" cy="495720"/>
          </a:xfrm>
        </p:grpSpPr>
        <p:sp>
          <p:nvSpPr>
            <p:cNvPr id="831" name=""/>
            <p:cNvSpPr/>
            <p:nvPr/>
          </p:nvSpPr>
          <p:spPr>
            <a:xfrm flipV="1">
              <a:off x="171468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0020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600200" y="3974760"/>
            <a:ext cx="698400" cy="495720"/>
            <a:chOff x="1600200" y="3974760"/>
            <a:chExt cx="698400" cy="495720"/>
          </a:xfrm>
        </p:grpSpPr>
        <p:sp>
          <p:nvSpPr>
            <p:cNvPr id="834" name=""/>
            <p:cNvSpPr/>
            <p:nvPr/>
          </p:nvSpPr>
          <p:spPr>
            <a:xfrm flipV="1">
              <a:off x="171468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0020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1600200" y="4851000"/>
            <a:ext cx="698400" cy="495720"/>
            <a:chOff x="1600200" y="4851000"/>
            <a:chExt cx="698400" cy="495720"/>
          </a:xfrm>
        </p:grpSpPr>
        <p:sp>
          <p:nvSpPr>
            <p:cNvPr id="837" name=""/>
            <p:cNvSpPr/>
            <p:nvPr/>
          </p:nvSpPr>
          <p:spPr>
            <a:xfrm flipV="1">
              <a:off x="171468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0020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7023240" y="3974760"/>
            <a:ext cx="698400" cy="495720"/>
            <a:chOff x="7023240" y="3974760"/>
            <a:chExt cx="698400" cy="495720"/>
          </a:xfrm>
        </p:grpSpPr>
        <p:sp>
          <p:nvSpPr>
            <p:cNvPr id="840" name=""/>
            <p:cNvSpPr/>
            <p:nvPr/>
          </p:nvSpPr>
          <p:spPr>
            <a:xfrm flipV="1">
              <a:off x="7137720" y="39747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23240" y="42544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023240" y="4851000"/>
            <a:ext cx="698400" cy="495720"/>
            <a:chOff x="7023240" y="4851000"/>
            <a:chExt cx="698400" cy="495720"/>
          </a:xfrm>
        </p:grpSpPr>
        <p:sp>
          <p:nvSpPr>
            <p:cNvPr id="843" name=""/>
            <p:cNvSpPr/>
            <p:nvPr/>
          </p:nvSpPr>
          <p:spPr>
            <a:xfrm flipV="1">
              <a:off x="7137720" y="485100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23240" y="513072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023240" y="2971440"/>
            <a:ext cx="698400" cy="495720"/>
            <a:chOff x="7023240" y="2971440"/>
            <a:chExt cx="698400" cy="495720"/>
          </a:xfrm>
        </p:grpSpPr>
        <p:sp>
          <p:nvSpPr>
            <p:cNvPr id="846" name=""/>
            <p:cNvSpPr/>
            <p:nvPr/>
          </p:nvSpPr>
          <p:spPr>
            <a:xfrm flipV="1">
              <a:off x="7137720" y="29714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23240" y="32511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600200" y="7848360"/>
            <a:ext cx="698400" cy="495720"/>
            <a:chOff x="1600200" y="7848360"/>
            <a:chExt cx="698400" cy="495720"/>
          </a:xfrm>
        </p:grpSpPr>
        <p:sp>
          <p:nvSpPr>
            <p:cNvPr id="849" name=""/>
            <p:cNvSpPr/>
            <p:nvPr/>
          </p:nvSpPr>
          <p:spPr>
            <a:xfrm flipV="1">
              <a:off x="1714680" y="78483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00200" y="81280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1600200" y="6845040"/>
            <a:ext cx="698400" cy="495720"/>
            <a:chOff x="1600200" y="6845040"/>
            <a:chExt cx="698400" cy="495720"/>
          </a:xfrm>
        </p:grpSpPr>
        <p:sp>
          <p:nvSpPr>
            <p:cNvPr id="852" name=""/>
            <p:cNvSpPr/>
            <p:nvPr/>
          </p:nvSpPr>
          <p:spPr>
            <a:xfrm flipV="1">
              <a:off x="1714680" y="68450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00200" y="71247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1600200" y="5905080"/>
            <a:ext cx="698400" cy="495720"/>
            <a:chOff x="1600200" y="5905080"/>
            <a:chExt cx="698400" cy="495720"/>
          </a:xfrm>
        </p:grpSpPr>
        <p:sp>
          <p:nvSpPr>
            <p:cNvPr id="855" name=""/>
            <p:cNvSpPr/>
            <p:nvPr/>
          </p:nvSpPr>
          <p:spPr>
            <a:xfrm flipV="1">
              <a:off x="1714680" y="590508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00200" y="618480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023240" y="5854320"/>
            <a:ext cx="698400" cy="495720"/>
            <a:chOff x="7023240" y="5854320"/>
            <a:chExt cx="698400" cy="495720"/>
          </a:xfrm>
        </p:grpSpPr>
        <p:sp>
          <p:nvSpPr>
            <p:cNvPr id="858" name=""/>
            <p:cNvSpPr/>
            <p:nvPr/>
          </p:nvSpPr>
          <p:spPr>
            <a:xfrm flipV="1">
              <a:off x="7137720" y="585432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023240" y="613404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023240" y="6857640"/>
            <a:ext cx="698400" cy="495720"/>
            <a:chOff x="7023240" y="6857640"/>
            <a:chExt cx="698400" cy="495720"/>
          </a:xfrm>
        </p:grpSpPr>
        <p:sp>
          <p:nvSpPr>
            <p:cNvPr id="861" name=""/>
            <p:cNvSpPr/>
            <p:nvPr/>
          </p:nvSpPr>
          <p:spPr>
            <a:xfrm flipV="1">
              <a:off x="7137720" y="685764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23240" y="713736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7023240" y="7848360"/>
            <a:ext cx="698400" cy="495720"/>
            <a:chOff x="7023240" y="7848360"/>
            <a:chExt cx="698400" cy="495720"/>
          </a:xfrm>
        </p:grpSpPr>
        <p:sp>
          <p:nvSpPr>
            <p:cNvPr id="864" name=""/>
            <p:cNvSpPr/>
            <p:nvPr/>
          </p:nvSpPr>
          <p:spPr>
            <a:xfrm flipV="1">
              <a:off x="7137720" y="7848360"/>
              <a:ext cx="583920" cy="49356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23240" y="8128080"/>
              <a:ext cx="139680" cy="216000"/>
            </a:xfrm>
            <a:prstGeom prst="line">
              <a:avLst/>
            </a:prstGeom>
            <a:ln w="76320">
              <a:solidFill>
                <a:srgbClr val="47ef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AR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cessing Mod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3772080" y="2400480"/>
            <a:ext cx="5460840" cy="4406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and plow on...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0" name=""/>
          <p:cNvSpPr/>
          <p:nvPr/>
        </p:nvSpPr>
        <p:spPr>
          <a:xfrm>
            <a:off x="1270080" y="12600"/>
            <a:ext cx="10464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Chalkboard"/>
              </a:rPr>
              <a:t>...just use SOD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issures/DHI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"/>
          <p:cNvSpPr/>
          <p:nvPr/>
        </p:nvSpPr>
        <p:spPr>
          <a:xfrm>
            <a:off x="63360" y="3613320"/>
            <a:ext cx="128653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etworkDCOperations netDC =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amingService.getNetworkDC("edu/iris/dmc", "IRIS_NetworkDC"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etworkFinder netFinder = netDC.a_finder(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etworkAccess net = netFinder.retrieve_by_code("II")[0]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on[] stations = net.retrieve_stations(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hannel[] channels = net.retrieve_for_station(stations[0].get_id());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9537840" y="952560"/>
            <a:ext cx="2273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5359320" y="1117440"/>
            <a:ext cx="5854680" cy="7506000"/>
          </a:xfrm>
          <a:prstGeom prst="rect">
            <a:avLst/>
          </a:prstGeom>
          <a:ln w="0">
            <a:noFill/>
          </a:ln>
        </p:spPr>
      </p:pic>
      <p:grpSp>
        <p:nvGrpSpPr>
          <p:cNvPr id="872" name=""/>
          <p:cNvGrpSpPr/>
          <p:nvPr/>
        </p:nvGrpSpPr>
        <p:grpSpPr>
          <a:xfrm>
            <a:off x="419040" y="749160"/>
            <a:ext cx="4038480" cy="3175200"/>
            <a:chOff x="419040" y="749160"/>
            <a:chExt cx="4038480" cy="3175200"/>
          </a:xfrm>
        </p:grpSpPr>
        <p:sp>
          <p:nvSpPr>
            <p:cNvPr id="873" name=""/>
            <p:cNvSpPr/>
            <p:nvPr/>
          </p:nvSpPr>
          <p:spPr>
            <a:xfrm>
              <a:off x="1434960" y="901800"/>
              <a:ext cx="3022560" cy="30225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pic>
          <p:nvPicPr>
            <p:cNvPr id="874" name="" descr=""/>
            <p:cNvPicPr/>
            <p:nvPr/>
          </p:nvPicPr>
          <p:blipFill>
            <a:blip r:embed="rId3"/>
            <a:stretch/>
          </p:blipFill>
          <p:spPr>
            <a:xfrm>
              <a:off x="419040" y="749160"/>
              <a:ext cx="2984400" cy="152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5" name=""/>
          <p:cNvSpPr/>
          <p:nvPr/>
        </p:nvSpPr>
        <p:spPr>
          <a:xfrm>
            <a:off x="0" y="4025880"/>
            <a:ext cx="53848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SOD automates the downloading and preprocessing of seismic data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usarrayProcessWorkshop.ppt_media/ears_movie-1.mov" descr=""/>
          <p:cNvPicPr/>
          <p:nvPr/>
        </p:nvPicPr>
        <p:blipFill>
          <a:blip r:embed="rId2"/>
          <a:stretch/>
        </p:blipFill>
        <p:spPr>
          <a:xfrm>
            <a:off x="2844720" y="2870280"/>
            <a:ext cx="732816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888840" y="1346040"/>
            <a:ext cx="11328480" cy="6934320"/>
          </a:xfrm>
          <a:prstGeom prst="roundRect">
            <a:avLst>
              <a:gd name="adj" fmla="val 2745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1154160" y="1900080"/>
            <a:ext cx="10477440" cy="57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69720" y="457200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hat do you want?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19040" y="749160"/>
            <a:ext cx="7404120" cy="3365640"/>
            <a:chOff x="419040" y="749160"/>
            <a:chExt cx="7404120" cy="3365640"/>
          </a:xfrm>
        </p:grpSpPr>
        <p:sp>
          <p:nvSpPr>
            <p:cNvPr id="881" name=""/>
            <p:cNvSpPr/>
            <p:nvPr/>
          </p:nvSpPr>
          <p:spPr>
            <a:xfrm>
              <a:off x="4800600" y="1092240"/>
              <a:ext cx="3022560" cy="30225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2"/>
            <a:stretch/>
          </p:blipFill>
          <p:spPr>
            <a:xfrm>
              <a:off x="419040" y="749160"/>
              <a:ext cx="2984400" cy="152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9129600" y="609480"/>
            <a:ext cx="3443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Arm overview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300464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9205920" y="609480"/>
            <a:ext cx="330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Network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2374920"/>
            <a:ext cx="13004640" cy="73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4599000" y="2921040"/>
            <a:ext cx="825012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7e2b"/>
                </a:solidFill>
                <a:latin typeface="Optima"/>
                <a:ea typeface="Optima"/>
              </a:rPr>
              <a:t>&lt;?xml version="1.0"?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sod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networkArm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networkFinder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name&gt;IRIS_NetworkDC&lt;/name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dns&gt;edu/iris/dmc&lt;/dns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/networkFinder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/networkArm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&lt;/sod&gt;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" name=""/>
          <p:cNvSpPr/>
          <p:nvPr/>
        </p:nvSpPr>
        <p:spPr>
          <a:xfrm>
            <a:off x="6910200" y="584280"/>
            <a:ext cx="5506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Simplest network arm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1930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343080" y="2755800"/>
            <a:ext cx="3974760" cy="527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3004640" cy="19303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9651960" y="609480"/>
            <a:ext cx="2844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852e"/>
                </a:solidFill>
                <a:latin typeface="Optima ExtraBlack"/>
                <a:ea typeface="Optima ExtraBlack"/>
              </a:rPr>
              <a:t>Basic XML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"/>
          <p:cNvSpPr/>
          <p:nvPr/>
        </p:nvSpPr>
        <p:spPr>
          <a:xfrm>
            <a:off x="1371600" y="2514600"/>
            <a:ext cx="102614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1200" spc="-1" strike="noStrike">
                <a:solidFill>
                  <a:srgbClr val="0c7e2c"/>
                </a:solidFill>
                <a:latin typeface="Arial"/>
                <a:ea typeface="Arial"/>
              </a:rPr>
              <a:t>   </a:t>
            </a:r>
            <a:r>
              <a:rPr b="0" lang="en-US" sz="3600" spc="-1" strike="noStrike">
                <a:solidFill>
                  <a:srgbClr val="0c7e2c"/>
                </a:solidFill>
                <a:latin typeface="Optima"/>
                <a:ea typeface="Optima"/>
              </a:rPr>
              <a:t>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?xml version=”1.0” encoding=”utf-8” ?&gt; is always first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Then &lt;sod&gt; . . .arms. . . &lt;/sod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&lt;sod&gt; . . . &lt;/sod&gt; is a tag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Text or other tags can be nested in a tag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Empty tags can be represented like &lt;sod/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	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 </a:t>
            </a:r>
            <a:r>
              <a:rPr b="0" lang="en-US" sz="3000" spc="-1" strike="noStrike">
                <a:solidFill>
                  <a:srgbClr val="0c7e2c"/>
                </a:solidFill>
                <a:latin typeface="Optima"/>
                <a:ea typeface="Optima"/>
              </a:rPr>
              <a:t>xml comments are &lt;!—and—&gt;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102870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"/>
          <p:cNvSpPr/>
          <p:nvPr/>
        </p:nvSpPr>
        <p:spPr>
          <a:xfrm>
            <a:off x="1714680" y="275580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" name=""/>
          <p:cNvSpPr/>
          <p:nvPr/>
        </p:nvSpPr>
        <p:spPr>
          <a:xfrm>
            <a:off x="1714680" y="370836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" name=""/>
          <p:cNvSpPr/>
          <p:nvPr/>
        </p:nvSpPr>
        <p:spPr>
          <a:xfrm>
            <a:off x="1714680" y="466092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"/>
          <p:cNvSpPr/>
          <p:nvPr/>
        </p:nvSpPr>
        <p:spPr>
          <a:xfrm>
            <a:off x="1714680" y="557532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" name=""/>
          <p:cNvSpPr/>
          <p:nvPr/>
        </p:nvSpPr>
        <p:spPr>
          <a:xfrm>
            <a:off x="1714680" y="656604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" name=""/>
          <p:cNvSpPr/>
          <p:nvPr/>
        </p:nvSpPr>
        <p:spPr>
          <a:xfrm>
            <a:off x="1714680" y="7505640"/>
            <a:ext cx="255240" cy="255600"/>
          </a:xfrm>
          <a:prstGeom prst="pie">
            <a:avLst/>
          </a:prstGeom>
          <a:solidFill>
            <a:srgbClr val="2c7c3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