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"/>
          </a:bodyPr>
          <a:p>
            <a:pPr marL="311976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s.sc.edu/sod3beta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3263400"/>
            <a:ext cx="10464840" cy="193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DHI, SOD, and the Processing Model Used by EAR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529596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hilip Crotwel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iversity of South Carolin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"/>
          <p:cNvSpPr/>
          <p:nvPr/>
        </p:nvSpPr>
        <p:spPr>
          <a:xfrm>
            <a:off x="3110400" y="7262640"/>
            <a:ext cx="6791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2"/>
              </a:rPr>
              <a:t>http://www.seis.sc.edu/sod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"/>
          <p:cNvSpPr/>
          <p:nvPr/>
        </p:nvSpPr>
        <p:spPr>
          <a:xfrm>
            <a:off x="4343040" y="941040"/>
            <a:ext cx="392040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00"/>
                </a:solidFill>
                <a:latin typeface="Chalkboard"/>
                <a:ea typeface="Chalkboard"/>
              </a:rPr>
              <a:t>SOD Basics</a:t>
            </a:r>
            <a:endParaRPr b="0" lang="en-US" sz="59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" name=""/>
          <p:cNvSpPr/>
          <p:nvPr/>
        </p:nvSpPr>
        <p:spPr>
          <a:xfrm>
            <a:off x="3613680" y="2325240"/>
            <a:ext cx="5378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halkboard"/>
                <a:ea typeface="Chalkboard"/>
              </a:rPr>
              <a:t>abridged from the original</a:t>
            </a:r>
            <a:endParaRPr b="0" lang="en-US" sz="3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784680" y="2031840"/>
            <a:ext cx="4851360" cy="76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vent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ventFind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EventDC&lt;/na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originTimeRang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start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year&gt;2003&lt;/yea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month&gt;1&lt;/month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ay&gt;1&lt;/day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start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nd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year&gt;2003&lt;/yea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month&gt;1&lt;/month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ay&gt;10&lt;/day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nd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originTimeRang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catalog&gt;WHDF&lt;/catalog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ventFind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printlineEventProcess/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vent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7617240" y="609480"/>
            <a:ext cx="483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st event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8140680" y="3670200"/>
            <a:ext cx="4648320" cy="4394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55680" y="3619440"/>
            <a:ext cx="4102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8792280" y="609480"/>
            <a:ext cx="374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Waveform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2451240"/>
            <a:ext cx="13004640" cy="73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7051320" y="609480"/>
            <a:ext cx="550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 waveform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" name=""/>
          <p:cNvSpPr/>
          <p:nvPr/>
        </p:nvSpPr>
        <p:spPr>
          <a:xfrm>
            <a:off x="1638360" y="2514600"/>
            <a:ext cx="4800600" cy="62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*Event Arm from earlier*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*Network Arm from earlier*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waveform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phaseReques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model&gt;prem&lt;/model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beginPhase&gt;ttp&lt;/beginPhase&gt;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	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	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&lt;begin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unit&gt;SECOND&lt;/uni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value&gt;-120&lt;/valu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begin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endPhase&gt;tts&lt;/endPhas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end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unit&gt;SECOND&lt;/uni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value&gt;360&lt;/valu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end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phaseReques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" name=""/>
          <p:cNvSpPr/>
          <p:nvPr/>
        </p:nvSpPr>
        <p:spPr>
          <a:xfrm>
            <a:off x="6625440" y="2184480"/>
            <a:ext cx="56426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fixedDataCent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name&gt;IRIS_PondDataCenter&lt;/na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dns&gt;edu/iris/dmc&lt;/dns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fixedDataCent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printlineSeismogramProcess/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waveform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7683480" y="5842080"/>
            <a:ext cx="353052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8384400" y="609480"/>
            <a:ext cx="2838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Exercise #2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" name=""/>
          <p:cNvSpPr/>
          <p:nvPr/>
        </p:nvSpPr>
        <p:spPr>
          <a:xfrm>
            <a:off x="863640" y="2502000"/>
            <a:ext cx="681984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April 4, 201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Events m6 and larg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TA networ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LH? channel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300 s before P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60 s after 2 km/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Ensure we have some Get some dat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Write miniSEE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125000"/>
              <a:buFont typeface="Optim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  <a:ea typeface="Optima"/>
              </a:rPr>
              <a:t>Write SAC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938200" y="3009960"/>
            <a:ext cx="68709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/fixedDataCent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someCoverage/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printlineSeismogramProcess/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"/>
          <p:cNvSpPr/>
          <p:nvPr/>
        </p:nvSpPr>
        <p:spPr>
          <a:xfrm>
            <a:off x="8526960" y="609480"/>
            <a:ext cx="396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802f"/>
                </a:solidFill>
                <a:latin typeface="Optima ExtraBlack"/>
                <a:ea typeface="Optima ExtraBlack"/>
              </a:rPr>
              <a:t>Data</a:t>
            </a:r>
            <a:r>
              <a:rPr b="0" lang="en-US" sz="4200" spc="-1" strike="noStrike">
                <a:solidFill>
                  <a:srgbClr val="378932"/>
                </a:solidFill>
                <a:latin typeface="Optima ExtraBlack"/>
                <a:ea typeface="Optima ExtraBlack"/>
              </a:rPr>
              <a:t> </a:t>
            </a:r>
            <a:r>
              <a:rPr b="0" lang="en-US" sz="4200" spc="-1" strike="noStrike">
                <a:solidFill>
                  <a:srgbClr val="33802f"/>
                </a:solidFill>
                <a:latin typeface="Optima ExtraBlack"/>
                <a:ea typeface="Optima ExtraBlack"/>
              </a:rPr>
              <a:t>availability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"/>
          <p:cNvSpPr/>
          <p:nvPr/>
        </p:nvSpPr>
        <p:spPr>
          <a:xfrm>
            <a:off x="6896160" y="5994360"/>
            <a:ext cx="45972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Use &lt;someCoverage/&gt; to avoid process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requests that have no dat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888840" y="2374920"/>
            <a:ext cx="4584960" cy="6489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603840" y="6184800"/>
            <a:ext cx="25560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642000" y="279360"/>
            <a:ext cx="6413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3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Automated Processing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3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Framework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"/>
          <p:cNvSpPr/>
          <p:nvPr/>
        </p:nvSpPr>
        <p:spPr>
          <a:xfrm>
            <a:off x="3848040" y="2247840"/>
            <a:ext cx="914400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printlineSeismogramProcess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sacWriter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esponseGain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Mean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Trend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integrate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sacWrit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workingDir&gt;processed&lt;/workingDi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/sacWrit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0" y="6464160"/>
            <a:ext cx="130046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888840" y="104760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events -R 150/160/40/55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2870280"/>
            <a:ext cx="12990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154.8190 48.3890 46.9 2009_096_09_47_39_720 5.1MB151.2110 46.0360 75.5 2009_097_01_39_01_760 4.9MB151.5480 46.0490 31 2009_097_04_23_33_150 6.5MB151.8580 46.2040 59.5 2009_097_05_29_47_960 4.7MB151.6090 45.9960 65.1 2009_097_07_53_12_940 4.7MB151.9190 46.0890 60 2009_097_09_15_00_050 4.3MB151.8640 46.0840 48.4 2009_097_18_38_05_530 4.7MB151.9600 45.8400 30.7 2009_097_20_46_34_970 4.5MB151.5690 46.1610 46.3 2009_098_00_59_15_450 5.2MB151.6010 46.0040 63.7 2009_098_08_54_34_300 4.7MB151.7300 45.9830 42.9 2009_098_16_17_56_490 5.0MB151.8780 46.2220 65.7 2009_098_20_50_39_720 4.8MB151.7900 46.1340 62.1 2009_100_03_10_21_960 5.1MB151.8660 45.4470 16.9 2009_100_14_55_54_120 4.7M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88840" y="104760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tations -n TA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476440"/>
            <a:ext cx="1299060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17.1051  32.8889 150. 109C-106.9211  34.0741 1436. Y22C-120.8699  35.6360 431. V04C-121.5514  36.3887 542. HAST-121.2675  44.1626 1011. I05A-123.7714  47.1161 31. D03A-122.7070  48.7197 23. A04A-114.5238  33.7503 196. Y12C-120.7828  36.3627 813. U04C-120.1205  36.3356 92. U05C-119.7089  37.0069 216. T06C-120.9363  38.2571 115. R04C-120.7395  38.7552 828. LAVA-121.3769  38.8390 14. Q04C-121.3278  37.5049 310. S04C-119.0228  36.6801 1145. HE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400480" y="4013280"/>
            <a:ext cx="7403760" cy="4190760"/>
          </a:xfrm>
          <a:prstGeom prst="roundRect">
            <a:avLst>
              <a:gd name="adj" fmla="val 454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" name=""/>
          <p:cNvSpPr/>
          <p:nvPr/>
        </p:nvSpPr>
        <p:spPr>
          <a:xfrm>
            <a:off x="888840" y="228600"/>
            <a:ext cx="112143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tations -n TA |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psxy -R-125/-65/25/50 -JM6 -B5 -St.05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-Gblue -K -P &gt; ta_map.ps ;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pscoast -R -JM -O -S220 -N1 -N2 &gt;&gt; ta_map.p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425680" y="-16128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888840" y="1320840"/>
            <a:ext cx="1121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channels -n TA -c 'BH?'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2279520"/>
            <a:ext cx="1299060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17.1051  32.8889 150. TA.109C.  .BHE 88.0 0.0 2004-05-04 2005-03-03-117.1051  32.8889 150. TA.109C.  .BHE 88.0 0.0 2005-04-11 2007-08-30-117.1051  32.8889 150. TA.109C.  .BHE 88.0 0.0 2007-08-30 2007-08-31-117.1051  32.8889 150. TA.109C.  .BHE 90.0 0.0 2007-08-31 2599-12-31-117.1051  32.8889 150. TA.109C.  .BHN 0.0 0.0 2007-08-31 2599-12-31-117.1051  32.8889 150. TA.109C.  .BHN 358.0 0.0 2004-05-04 2005-03-03-117.1051  32.8889 150. TA.109C.  .BHN 358.0 0.0 2005-04-11 2007-08-30-117.1051  32.8889 150. TA.109C.  .BHN 358.0 0.0 2007-08-30 2007-08-31-117.1051  32.8889 150. TA.109C.  .BHZ 0.0 -90.0 2007-08-31 2599-12-31-117.1051  32.8889 150. TA.109C.  .BHZ 0.0 -90.0 2004-05-04 2005-03-03-117.1051  32.8889 150. TA.109C.  .BHZ 0.0 -90.0 2005-04-11 2007-08-30-117.1051  32.8889 150. TA.109C.  .BHZ 0.0 -90.0 2007-08-30 2007-08-31-106.9211  34.0741 1436. TA.Y22C.  .BHE 84.0 0.0 2004-05-07 2004-06-22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06.9211  34.0741 1436. TA.Y22C.  .BHE 84.0 0.0 2004-06-22 2006-12-24-106.9211  34.0741 1436. TA.Y22C.  .BHE 84.0 0.0 2007-03-31 2007-06-02-106.9211  34.0741 1436. TA.Y22C.  .BHE 84.0 0.0 2006-12-24 2007-03-31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200520" y="609480"/>
            <a:ext cx="3301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OD Concep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"/>
          <p:cNvSpPr/>
          <p:nvPr/>
        </p:nvSpPr>
        <p:spPr>
          <a:xfrm>
            <a:off x="611280" y="2666880"/>
            <a:ext cx="1239516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cal process on your workstation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eads a “recipe” file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XML format, provides complete instruction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nnects to DHI server running at archive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ownloads dat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n unpack and process dat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ownloads all data meeting recipe criteri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is can be open-ended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.g., process downloads any new data that meet criteri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69800" y="4546440"/>
            <a:ext cx="11214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channels -n TA -c 'BH?'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28600"/>
            <a:ext cx="124952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xercise #3 - Experiment with “find” command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"/>
          <p:cNvSpPr/>
          <p:nvPr/>
        </p:nvSpPr>
        <p:spPr>
          <a:xfrm>
            <a:off x="469800" y="1492200"/>
            <a:ext cx="11214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events -R 150/160/40/55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" name=""/>
          <p:cNvSpPr/>
          <p:nvPr/>
        </p:nvSpPr>
        <p:spPr>
          <a:xfrm>
            <a:off x="469800" y="301608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tations -n TA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" name=""/>
          <p:cNvSpPr/>
          <p:nvPr/>
        </p:nvSpPr>
        <p:spPr>
          <a:xfrm>
            <a:off x="469800" y="5784840"/>
            <a:ext cx="11214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www.seis.sc.edu/sod/tool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9129600" y="609480"/>
            <a:ext cx="344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Arm overview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300464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205920" y="609480"/>
            <a:ext cx="330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Network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0" y="2374920"/>
            <a:ext cx="13004640" cy="73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599000" y="2921040"/>
            <a:ext cx="82501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7e2b"/>
                </a:solidFill>
                <a:latin typeface="Optima"/>
                <a:ea typeface="Optima"/>
              </a:rPr>
              <a:t>&lt;?xml version="1.0"?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etwork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etworkFind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NetworkDC&lt;/nam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networkFind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network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"/>
          <p:cNvSpPr/>
          <p:nvPr/>
        </p:nvSpPr>
        <p:spPr>
          <a:xfrm>
            <a:off x="6910200" y="584280"/>
            <a:ext cx="550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st network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19306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43080" y="2755800"/>
            <a:ext cx="3974760" cy="527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9651960" y="609480"/>
            <a:ext cx="2844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Basic XM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514600"/>
            <a:ext cx="102614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1200" spc="-1" strike="noStrike">
                <a:solidFill>
                  <a:srgbClr val="0c7e2c"/>
                </a:solidFill>
                <a:latin typeface="Arial"/>
                <a:ea typeface="Arial"/>
              </a:rPr>
              <a:t>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?xml version=”1.0” encoding=”utf-8” ?&gt; is always firs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Then &lt;sod&gt; . . .arms. . . &lt;/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sod&gt; . . . &lt;/sod&gt; is a ta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Text or other tags can be nested in a ta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Empty tags can be represented like &lt;sod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xml comments are &lt;!—and—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"/>
          <p:cNvSpPr/>
          <p:nvPr/>
        </p:nvSpPr>
        <p:spPr>
          <a:xfrm>
            <a:off x="1714680" y="275580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"/>
          <p:cNvSpPr/>
          <p:nvPr/>
        </p:nvSpPr>
        <p:spPr>
          <a:xfrm>
            <a:off x="1714680" y="370836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" name=""/>
          <p:cNvSpPr/>
          <p:nvPr/>
        </p:nvSpPr>
        <p:spPr>
          <a:xfrm>
            <a:off x="1714680" y="466092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"/>
          <p:cNvSpPr/>
          <p:nvPr/>
        </p:nvSpPr>
        <p:spPr>
          <a:xfrm>
            <a:off x="1714680" y="557532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"/>
          <p:cNvSpPr/>
          <p:nvPr/>
        </p:nvSpPr>
        <p:spPr>
          <a:xfrm>
            <a:off x="1714680" y="656604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" name=""/>
          <p:cNvSpPr/>
          <p:nvPr/>
        </p:nvSpPr>
        <p:spPr>
          <a:xfrm>
            <a:off x="1714680" y="750564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7061040" y="291960"/>
            <a:ext cx="57661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Limit to broadband and print channe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2120760"/>
            <a:ext cx="701028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?xml version="1.0"?&gt; &lt;sod&gt;       &lt;networkArm&gt;             &lt;networkFinder&gt;                   &lt;name&gt;IRIS_NetworkDC&lt;/name&gt;                   &lt;dns&gt;edu/iris/dmc&lt;/dns&gt;               &lt;/networkFinder&gt;                  &lt;networkCode&gt;TA&lt;/networkCode&gt;         &lt;channelAND&gt;            &lt;bandCode&gt;L&lt;/bandCode&gt;            &lt;gainCode&gt;H&lt;/gainCode&gt;        &lt;/channelAND&gt;    &lt;printlineChannelProcess/&gt;       &lt;/networkArm&gt; &lt;/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43080" y="2413080"/>
            <a:ext cx="554976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756480" y="622440"/>
            <a:ext cx="5765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Exercise #2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2120760"/>
            <a:ext cx="70102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  <a:ea typeface="Optima"/>
              </a:rPr>
              <a:t>Run SOD recipe from previous slide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  <a:ea typeface="Optima"/>
              </a:rPr>
              <a:t>Identify TA Network station channel pairs available from DMC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  <a:ea typeface="Optima"/>
              </a:rPr>
              <a:t>Help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Optima"/>
                <a:ea typeface="Optima"/>
              </a:rPr>
              <a:t>www.seis.sc.edu/sod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43080" y="2413080"/>
            <a:ext cx="554976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066680" y="609480"/>
            <a:ext cx="2547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Event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0" y="2387520"/>
            <a:ext cx="13004640" cy="737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