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6166-261A-448D-8F49-9B4D1C707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C3E5-8BFD-4F10-82E5-DF2F2B0A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D933-1481-4634-98AB-2FE16CC54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BD38-BBDC-4FAC-B46B-3A7D995C5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842A-5221-4D98-89DB-A136B2CF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44CE-5480-4A08-997F-EABA561C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00AA-5F76-4A6D-96EA-E0118566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1CC0-66C8-45C0-940D-0CB2B99F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3C09-6AF1-4F84-9C53-349F60A1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7A1E-984A-432B-9E92-16A4DD03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23DA-A459-478C-9E7F-FE25ED63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FC26-C06D-4414-A398-597C69C8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D58B-1B70-49D3-9255-04E352170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6880" y="1135080"/>
            <a:ext cx="797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this to your home on your mach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03:58:06Z</dcterms:created>
  <dc:creator>Ed  Garnero</dc:creator>
  <dc:description/>
  <dc:language>en-US</dc:language>
  <cp:lastModifiedBy>Ed  Garnero</cp:lastModifiedBy>
  <dcterms:modified xsi:type="dcterms:W3CDTF">2009-08-06T03:59:50Z</dcterms:modified>
  <cp:revision>1</cp:revision>
  <dc:subject/>
  <dc:title>PowerPoint Presentation</dc:title>
</cp:coreProperties>
</file>